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CD9C0AF-ABF7-46F9-8CD6-E00127896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88F2DB3-EC3C-4998-9D0C-DB36FFCCE3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331B0D-8A4F-4116-B00C-6CD2E987B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4191309-1C03-4D4E-B0F1-6BD0E71EA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9AB3C72-C0B1-4D85-A666-6EDD4FC7E5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6BA277F-9C42-4FEB-8BF7-C25B4B0B9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E309DB0-F620-49CD-9D7A-B2FF16ED9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F071C1F-E365-4849-AA83-A73F75A958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9AFE0AA-DDE6-4EBA-8F0E-13F6300B9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17F830C-51AC-4858-983E-826CED3C71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1C283DA-F399-4C87-8980-3E40120CD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87F890D-F706-469E-870C-E7CC72EF57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B2A4F13-0347-422C-973C-8356F66EEC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B58811D-2E27-42B1-8375-F6DC45EE61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11/10, 19: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uncil, EC (DG SANTE), OLAF, EACEA, EASME, ECB, EIB, EFSA, EESC, Frontex, E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6DDB4EC-1532-4C02-8EB0-D3995A65F7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11/10, 15: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F7CD5DC-C701-4C72-8074-8C17AE6B8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8F3F83C-D5FE-4E00-AA91-AB72BCD75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4EEA95A-F238-4670-83D5-949929B988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FC9F-F8BE-4712-85D2-98216469D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8C5D-8AAA-48BF-ACC7-F1A1654A9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FD7C-B253-48DC-A024-EE5655389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DFCF-BD28-4D5B-9578-8A4924FB04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4848-A302-4DDD-83DC-9D84A9E54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06EB-485B-4EA8-848A-079CDD30E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C4FF-EE22-4785-B913-0C27F191D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56DD-C04E-4E49-850A-4C685EEC2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25E1-FD09-4E22-BC99-B8D0D5F33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1F9A-1502-4338-8ACD-A85FA977B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B72B-C778-4FE7-A18F-855779A89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34C0-F7E9-408C-8FF5-52F84CDED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394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3EB1-6346-4545-BD9A-C39FF20D724C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ps.europa.eu/" TargetMode="External"/><Relationship Id="rId3" Type="http://schemas.openxmlformats.org/officeDocument/2006/relationships/hyperlink" Target="mailto:edps@edps.europa.eu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1557360"/>
            <a:ext cx="475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ocumentation and the “new 45”: DPIAs, Records &amp; 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63640" y="4268880"/>
            <a:ext cx="331164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Owe Langfel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PO-EDP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13/10/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39640" y="287280"/>
            <a:ext cx="363564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B2B7-583B-468E-B234-49356BF845B6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Excercise: DEMI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gital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uropea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llennium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tegrated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ant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versight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Management system for research grants, users in EUI and MS, covering whole lif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Controller started DPI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xercise: using the guiding questions from draft guidance paper, help the controller to think in the right direction for the “screening &amp; scoring” and “tracking” sub-processes (2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rcRect l="0" t="0" r="19685" b="23120"/>
          <a:stretch/>
        </p:blipFill>
        <p:spPr>
          <a:xfrm>
            <a:off x="395280" y="1403280"/>
            <a:ext cx="8445600" cy="454824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7A69-1932-4A0F-BC6C-B380484049C9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EMI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A4F1-F91F-4A35-95AB-E584EAA51CE5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EMIGOD: resul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Fair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at do people know and underst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ranspa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nforming 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c behind sc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Purpose lim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Function cree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xclu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DDF2-A379-4BE7-A2E6-C25E1C0F7E6B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EMIGOD: resul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ata minim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ich data sources are really requi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How far can you rely on external/MS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nsuring data quality in external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torage lim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how long for which 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user access / interconne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A4DF-B325-40F1-83BD-D66E4CB9C968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re won’t be many DPIAs; standard staff management activities are unlikely to require th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ition: yes, it’s quite a bit of work, but we’ll hel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ormally: applicable righ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809F-3D84-45E3-B0F1-7966A4737969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o recall: transition/grace perio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Your comments by 31/10, plea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01640" y="2063880"/>
          <a:ext cx="8140680" cy="2982960"/>
        </p:xfrm>
        <a:graphic>
          <a:graphicData uri="http://schemas.openxmlformats.org/drawingml/2006/table">
            <a:tbl>
              <a:tblPr/>
              <a:tblGrid>
                <a:gridCol w="3456000"/>
                <a:gridCol w="4684680"/>
              </a:tblGrid>
              <a:tr h="51192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-post PC notif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nly until 30/11/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rue PC notif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im for 28/02/18 at the latest, but please as soon as poss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ses in follow-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f pending on your side on 25/05  /18, do threshold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osed cases triggering DPIA 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race period, no need for DPIA immediately (unless chang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235B-35AF-4300-8A08-F31BE0FF5C53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Useful for EU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Understandable for controll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cords: compliance check useful in that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PIAs: clearer on when &amp; how to do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thodolog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2271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For more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dps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ps@edps.europa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menu_icon_twitter2"/>
          <p:cNvPicPr/>
          <p:nvPr/>
        </p:nvPicPr>
        <p:blipFill>
          <a:blip r:embed="rId4"/>
          <a:stretch/>
        </p:blipFill>
        <p:spPr>
          <a:xfrm>
            <a:off x="3419640" y="4221000"/>
            <a:ext cx="547560" cy="527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086360" y="42559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@EU_E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F796-47BC-4481-9328-3A23055C8922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tate of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Your comments so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C4B9-6B2A-4E24-89C4-0DE47D007259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raft Documentation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ont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Records, DPIAs &amp; Co under new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Target audience: “controllers in practi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tate of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draft GLs sent to you for consultation on 19/09, comments requested by 10/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P29 GL: adopted 04/10, publication so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new 45”: Committee vote in LIBE 12/10, Council ready; text seems stable for DP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EBD2-9387-4F80-8452-60D8097DBA4E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raft Documentation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hanges following final WP29 G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adapt criteria for when to do a DPIA – no more “2 boxes and you’re in”, a bit more flex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AE24-6EFF-49FA-BAC5-F89F1C683355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tate of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Arial"/>
              </a:rPr>
              <a:t>Your comments so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9C9C-1E83-4985-83BF-7311013A95E2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raft Documentation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ets of comments received so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ain wishes / question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one-page checklist / short leafl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List of accepted DPIA methodolo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Content of record template: strictly Art. 31 or “what people should know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Scope: include data breaches to have it as “one-stop-shop” for control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8C41-3AC9-4911-9A5C-485C992D3646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raft Documentation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ain wishes / questions (cont’d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better explanation of DS representative consult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Keep regis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cloud / transfers as risk fac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indication on workload for trans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ther possible chan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Add equivalence table Art. 25 notifications v. Art. 31 rec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1DEF-E66E-4F0D-B2A3-1A54CB01225E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raft Documentation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Your final comments by 31/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Finalisation by end of 201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Share final version with yo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Formal publication as soon as “new 45” is signed into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EA7D-2FA1-4724-88BF-8E2F1777BD60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tate of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Your comments so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Arial"/>
              </a:rPr>
              <a:t>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21:41Z</dcterms:created>
  <dc:creator>Agnieszka Nyka</dc:creator>
  <dc:description/>
  <dc:language>en-US</dc:language>
  <cp:lastModifiedBy>LANGFELDT Owe</cp:lastModifiedBy>
  <cp:lastPrinted>2017-10-12T07:55:55Z</cp:lastPrinted>
  <dcterms:modified xsi:type="dcterms:W3CDTF">2017-10-12T08:00:33Z</dcterms:modified>
  <cp:revision>73</cp:revision>
  <dc:subject/>
  <dc:title>- Title 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O$NOPARSEFILE">
    <vt:lpwstr/>
  </property>
  <property fmtid="{D5CDD505-2E9C-101B-9397-08002B2CF9AE}" pid="3" name="COO$NOUSEREXPRESSIONS">
    <vt:lpwstr/>
  </property>
  <property fmtid="{D5CDD505-2E9C-101B-9397-08002B2CF9AE}" pid="4" name="COO$NOVIRTUALATTRS">
    <vt:lpwstr/>
  </property>
  <property fmtid="{D5CDD505-2E9C-101B-9397-08002B2CF9AE}" pid="5" name="FSC#COOSYSTEM@1.1:Container">
    <vt:lpwstr>COO.6515.100.3.303975</vt:lpwstr>
  </property>
  <property fmtid="{D5CDD505-2E9C-101B-9397-08002B2CF9AE}" pid="6" name="FSC#FSCFOLIO@1.1001:docpropproject">
    <vt:lpwstr/>
  </property>
  <property fmtid="{D5CDD505-2E9C-101B-9397-08002B2CF9AE}" pid="7" name="FSC$NOPARSEFILE">
    <vt:lpwstr/>
  </property>
  <property fmtid="{D5CDD505-2E9C-101B-9397-08002B2CF9AE}" pid="8" name="FSC$NOUSEREXPRESSIONS">
    <vt:lpwstr/>
  </property>
  <property fmtid="{D5CDD505-2E9C-101B-9397-08002B2CF9AE}" pid="9" name="FSC$NOVIRTUALATTRS">
    <vt:lpwstr/>
  </property>
</Properties>
</file>