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779640" y="0"/>
            <a:ext cx="288756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9263160"/>
            <a:ext cx="288756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779640" y="9263160"/>
            <a:ext cx="288756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332D272A-4159-4F7F-9113-DD567F7B17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780000" y="9263160"/>
            <a:ext cx="2887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45D2721-9D01-4836-9ADD-C9A29DE825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780000" y="9263160"/>
            <a:ext cx="2887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D1AF144-7817-431A-BD23-C168051CEA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780000" y="9263160"/>
            <a:ext cx="2887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DBA56CC-BBDC-4434-9811-D88C33E1FF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780000" y="9263160"/>
            <a:ext cx="2887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30F3A609-85AD-4189-92E3-AFEF1CD915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780000" y="9263160"/>
            <a:ext cx="2887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9ECAE54-B4F3-4CF5-97A2-A098954455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780000" y="9263160"/>
            <a:ext cx="2887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5B9765A9-D64A-41F0-B8C9-6DCC5FCC0A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780000" y="9263160"/>
            <a:ext cx="2887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B7F1639-254B-4D0B-9099-EB44CDFD01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780000" y="9263160"/>
            <a:ext cx="2887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FB6E0A9F-B5D4-4801-80B0-D665CBC6EB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10CD-4BC7-43B3-AF74-5A5853AA7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9DA0-F03D-4A1C-8422-6C698A819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D621-3CD9-4FCD-A3B5-CB12C36F1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B473-3B77-4B40-B67E-D13D0591FC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96D3-D194-4520-88CB-8896AF12B9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447C-1991-4A82-97DF-10DAC7A92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6C6D-6BD8-4986-8AE4-ED21B1CC8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AADD-D11A-4856-B770-9C6F02430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B717-B0A1-4B8C-B64F-D05A7D57D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0DA5-B45D-4763-86DB-E5F96B5B1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BBBA-B765-48C8-9DBD-10FF8845C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CE09-B34D-4B5E-9E08-E8D580055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394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4EF1-9021-4A39-AB00-72BF0258BCA1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dps.europa.eu/" TargetMode="External"/><Relationship Id="rId3" Type="http://schemas.openxmlformats.org/officeDocument/2006/relationships/hyperlink" Target="mailto:edps@edps.europa.eu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7640" y="692280"/>
            <a:ext cx="5688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Revised</a:t>
            </a: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DPO Policy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055600" y="2421000"/>
            <a:ext cx="5400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  <a:ea typeface="MS PGothic"/>
              </a:rPr>
              <a:t>Petra Candel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  <a:ea typeface="MS PGothic"/>
              </a:rPr>
              <a:t>EDPS meeting with 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  <a:ea typeface="MS PGothic"/>
              </a:rPr>
              <a:t>EMA, London, 13 October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5865840" y="4221000"/>
            <a:ext cx="3181320" cy="23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ADE5-7251-4F37-ACD7-204FEC3879AB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99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Existing Policy Paper on DPOs from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Necessary to update the Policy Paper to reflect the novelties in the revised Regulation 45/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Part of EDPS’ work on transition to the new Reg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No 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revolutionary</a:t>
            </a:r>
            <a:r>
              <a:rPr b="0" lang="fr-FR" sz="2800" spc="-1" strike="noStrike">
                <a:solidFill>
                  <a:srgbClr val="000099"/>
                </a:solidFill>
                <a:latin typeface="Arial"/>
              </a:rPr>
              <a:t> changes: builds on former Paper with some inspiration from WP29 DP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B731-CC83-46CF-9D08-445B6B2022B2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Designation of D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99"/>
                </a:solidFill>
                <a:latin typeface="Arial"/>
              </a:rPr>
              <a:t>Common/shared D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99"/>
                </a:solidFill>
                <a:latin typeface="Arial"/>
              </a:rPr>
              <a:t>External D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99"/>
                </a:solidFill>
                <a:latin typeface="Arial"/>
              </a:rPr>
              <a:t>Publication of contac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99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Position of DPO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1125360"/>
            <a:ext cx="9180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99"/>
                </a:solidFill>
                <a:latin typeface="Arial"/>
              </a:rPr>
              <a:t>Involve DPO properly and in a timely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Necessa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includes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not dismissed or pe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report to highest level of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secrecy/confidenti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9BDA-888A-47EA-8B13-175E4887F3C6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7740720" y="5653080"/>
            <a:ext cx="125892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osition of DPO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1352520"/>
            <a:ext cx="9180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Term of man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Part time DPO – Conflict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2F6E-146F-4AA3-B67D-2E8E648E4454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7740720" y="5653080"/>
            <a:ext cx="125892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152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99"/>
                </a:solidFill>
                <a:latin typeface="Arial"/>
              </a:rPr>
              <a:t>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7640" y="764640"/>
            <a:ext cx="9180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99"/>
                </a:solidFill>
                <a:latin typeface="Arial"/>
              </a:rPr>
              <a:t>Monitor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99"/>
                </a:solidFill>
                <a:latin typeface="Arial"/>
              </a:rPr>
              <a:t>Advise on necessity for notification/communication on personal data b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99"/>
                </a:solidFill>
                <a:latin typeface="Arial"/>
              </a:rPr>
              <a:t>Advise on DPIAs, monitor its performance, and consult EDPS on the need for a DPIA in case of dou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99"/>
                </a:solidFill>
                <a:latin typeface="Arial"/>
              </a:rPr>
              <a:t>Advise on the need for prior consultation and consult the EDPS on the need for a prior consultation in case of dou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99"/>
                </a:solidFill>
                <a:latin typeface="Arial"/>
              </a:rPr>
              <a:t>Record keep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E2F3-CDE5-43B9-925A-8834B9AFCE55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7740720" y="5653080"/>
            <a:ext cx="125892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99"/>
                </a:solidFill>
                <a:latin typeface="Arial"/>
              </a:rPr>
              <a:t>Your input neede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1352520"/>
            <a:ext cx="9180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99"/>
                </a:solidFill>
                <a:latin typeface="Arial"/>
              </a:rPr>
              <a:t>How do </a:t>
            </a:r>
            <a:r>
              <a:rPr b="0" i="1" lang="nl-NL" sz="2400" spc="-1" strike="noStrike">
                <a:solidFill>
                  <a:srgbClr val="000099"/>
                </a:solidFill>
                <a:latin typeface="Arial"/>
              </a:rPr>
              <a:t>you</a:t>
            </a:r>
            <a:r>
              <a:rPr b="0" lang="nl-NL" sz="2400" spc="-1" strike="noStrike">
                <a:solidFill>
                  <a:srgbClr val="000099"/>
                </a:solidFill>
                <a:latin typeface="Arial"/>
              </a:rPr>
              <a:t> see your new ro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99"/>
                </a:solidFill>
                <a:latin typeface="Arial"/>
              </a:rPr>
              <a:t>Thoughts, concerns, fears, challenges.... Please sha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99"/>
                </a:solidFill>
                <a:latin typeface="Arial"/>
              </a:rPr>
              <a:t>Anything miss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C064-34EB-4273-8735-E1708EA1939A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7740720" y="5653080"/>
            <a:ext cx="125892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7509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ank you!</a:t>
            </a:r>
            <a:br>
              <a:rPr sz="3600"/>
            </a:br>
            <a:br>
              <a:rPr sz="3600"/>
            </a:b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dps.europa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ps@edps.europa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enu_icon_twitter2"/>
          <p:cNvPicPr/>
          <p:nvPr/>
        </p:nvPicPr>
        <p:blipFill>
          <a:blip r:embed="rId4"/>
          <a:stretch/>
        </p:blipFill>
        <p:spPr>
          <a:xfrm>
            <a:off x="3718080" y="3716280"/>
            <a:ext cx="547560" cy="527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4384800" y="37512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@EU_E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384800" y="46274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E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5"/>
          <a:stretch/>
        </p:blipFill>
        <p:spPr>
          <a:xfrm>
            <a:off x="3720960" y="4537080"/>
            <a:ext cx="547920" cy="5475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4384800" y="5435640"/>
            <a:ext cx="45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European Data Protection Super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6"/>
          <a:stretch/>
        </p:blipFill>
        <p:spPr>
          <a:xfrm>
            <a:off x="3718080" y="5419800"/>
            <a:ext cx="547560" cy="38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\\MUSTALLAMYDOC01\EDPS-UserData$\orossignol\Pictures\EDPS\MTS Building.jpg"/>
          <p:cNvPicPr/>
          <p:nvPr/>
        </p:nvPicPr>
        <p:blipFill>
          <a:blip r:embed="rId7"/>
          <a:stretch/>
        </p:blipFill>
        <p:spPr>
          <a:xfrm>
            <a:off x="797040" y="2386080"/>
            <a:ext cx="2124000" cy="3187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8"/>
          <a:stretch/>
        </p:blipFill>
        <p:spPr>
          <a:xfrm>
            <a:off x="7824960" y="5805360"/>
            <a:ext cx="11872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4:21:41Z</dcterms:created>
  <dc:creator>Agnieszka Nyka</dc:creator>
  <dc:description/>
  <dc:language>en-US</dc:language>
  <cp:lastModifiedBy>CANDELLIER Petra</cp:lastModifiedBy>
  <cp:lastPrinted>2017-04-27T14:23:06Z</cp:lastPrinted>
  <dcterms:modified xsi:type="dcterms:W3CDTF">2017-10-10T15:55:42Z</dcterms:modified>
  <cp:revision>59</cp:revision>
  <dc:subject/>
  <dc:title>- Title -</dc:title>
</cp:coreProperties>
</file>