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06640" y="-36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9120" cy="36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935964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06640" y="935964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B16164-73F2-40D5-99FF-D55B57793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30A51B-E17B-4A49-A307-66525671B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4A5-B8BD-4E65-9705-87542F1EE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F4DC-A1F6-4865-884E-64DC9ADDB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ularité du règlement 45/20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99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D obligatoire dès le depart – Art. 24 (contrairement à la directive 95/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99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gences: qualités professionnelles, indépendance, démission par RT avec autorisation du CEPD, octroi des ressources nécess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99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voirs (annexe du règlement): pouvoir d’enquête, accès aux données personnelles et aux installations de traitement des données, obligation des RT de l’aider à accomplir s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 le rôle du DPD publié dès novembre 2005 – toujours d’act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D  = Personne de référence depuis la création du CEPD (2004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assisté par d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urs à la protection des donné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les grandes 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eur-cl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‘chef d’orchestre’ (CNIL) de la responsabilisation bien avant le GDPR et la réforme du règlement 45/200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169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aire des trai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169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e des notifications (Art.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169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éclencheur de la notification pour contrôle préalable (Art. 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èglement des problèmes en interne (sans intervention du CEPD) dans la mesure du possible (avant de traiter consultation, réclamation: vérification systématique de l’implication du D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ils pour l’aider à appliquer le règlement sans nous: lignes directrices, formations, publications de notre jurisprudence (registre des avis sur contrôle préalable, publication des consultations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spcBef>
                <a:spcPts val="451"/>
              </a:spcBef>
              <a:buNone/>
              <a:tabLst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947853-3638-4F68-84FB-A68A04B67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6E95-F052-4C4B-9B6D-A0DAC1296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BFBA-BFA0-4469-BEB0-B891215C1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6D2D-F91E-4B9D-815E-B81C50161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E0C7-D79A-41F1-99BC-3ADAE69A4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9EA1-B256-4FDB-B960-EECECC562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4B7C-F5E0-476B-8EB3-3285154DA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3F45-88AF-4F16-BCF6-62B3632FB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4EF5-6D3E-47F5-A9F9-24D91273A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FE9C-0A1A-40B9-8FDA-7E9391C7C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C6C2-6527-4655-9DC9-AF70E4820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AA60-34A9-4E25-928C-0049C8873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8F2E-2BE6-482D-B03C-7A1DDDC1F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94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CF72-91A0-46D5-A872-4E153F710405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7640" y="3068280"/>
            <a:ext cx="8172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GB" sz="5400" spc="-1" strike="noStrike">
                <a:solidFill>
                  <a:srgbClr val="333399"/>
                </a:solidFill>
                <a:latin typeface="Arial"/>
              </a:rPr>
              <a:t>State of Play S &amp;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48000" y="522900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Maria Veronica Pérez Asinari, Head Of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European Data Protection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Unit Supervision and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108000" y="0"/>
            <a:ext cx="331164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gram 2" descr=""/>
          <p:cNvPicPr/>
          <p:nvPr/>
        </p:nvPicPr>
        <p:blipFill>
          <a:blip r:embed="rId1"/>
          <a:stretch/>
        </p:blipFill>
        <p:spPr>
          <a:xfrm>
            <a:off x="1407960" y="871560"/>
            <a:ext cx="648684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BAF-6ACA-4E53-8525-296DE8845552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66880"/>
            <a:ext cx="85042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rticle 25” notifications can serve as a basis for records foreseen by article 31 of the new Regulation; review where necessary. 2 year transition period from EDPS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rticle 27” notifications/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  <a:ea typeface="Arial"/>
              </a:rPr>
              <a:t>new ex-post notification: no longer accepted from 30</a:t>
            </a:r>
            <a:r>
              <a:rPr b="1" lang="en-GB" sz="1800" spc="-1" strike="noStrike" baseline="30000">
                <a:solidFill>
                  <a:srgbClr val="f2b800"/>
                </a:solidFill>
                <a:latin typeface="Arial"/>
                <a:ea typeface="Arial"/>
              </a:rPr>
              <a:t>th</a:t>
            </a:r>
            <a:r>
              <a:rPr b="1" lang="en-GB" sz="1800" spc="-1" strike="noStrike">
                <a:solidFill>
                  <a:srgbClr val="f2b800"/>
                </a:solidFill>
                <a:latin typeface="Arial"/>
                <a:ea typeface="Arial"/>
              </a:rPr>
              <a:t> of November 201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  <a:ea typeface="Arial"/>
              </a:rPr>
              <a:t>new true prior check: accepted until the end, but please aim for submission to EDPS by end of 02/18 at the late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  <a:ea typeface="Arial"/>
              </a:rPr>
              <a:t>cases in follow-up: if still pending on your side on 25/05/18, do a threshold assessment immediate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  <a:ea typeface="Arial"/>
              </a:rPr>
              <a:t>closed cases that trigger DPIA criteria: two years transition from EDPS side – no need to do a DPIA immediately. Again, the Regulation will be already in forc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761240" y="5880240"/>
            <a:ext cx="1258920" cy="944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468360" y="90360"/>
            <a:ext cx="85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Transition to the New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AD58-A7AC-404B-A555-952B09E2E7C2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iagram 1" descr=""/>
          <p:cNvPicPr/>
          <p:nvPr/>
        </p:nvPicPr>
        <p:blipFill>
          <a:blip r:embed="rId1"/>
          <a:stretch/>
        </p:blipFill>
        <p:spPr>
          <a:xfrm>
            <a:off x="2408400" y="420840"/>
            <a:ext cx="4041720" cy="817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971640" y="1230480"/>
            <a:ext cx="6913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new Regulation needs to be respected from day 1 -  adoption may take place only few weeks before entry into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legislator expects EU institutions to be prepared and take action during the 2 years of the GDPR transition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U institutions should be ready as much as possible – citizens will enforce their rights as of 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380360" y="5502240"/>
            <a:ext cx="15192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678-E2DF-4212-BE12-8A8C62523583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Diagram 1" descr=""/>
          <p:cNvPicPr/>
          <p:nvPr/>
        </p:nvPicPr>
        <p:blipFill>
          <a:blip r:embed="rId1"/>
          <a:stretch/>
        </p:blipFill>
        <p:spPr>
          <a:xfrm>
            <a:off x="407880" y="512640"/>
            <a:ext cx="8298000" cy="1243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13920" y="2206440"/>
            <a:ext cx="856764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paration of the EDPS for the entry into force and implementation of the new Regulation 45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wo aspects covering (1) internal preparation as an Institution to lead by example and (2)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pport for other EUIs for the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332000" y="154620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7286760" y="5365800"/>
            <a:ext cx="1519200" cy="1139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3132000" y="4871880"/>
            <a:ext cx="24480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12920" y="960120"/>
            <a:ext cx="82296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New guidelines or papers will be issued covering new aspects of the revised Regul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</a:rPr>
              <a:t>Accountability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</a:rPr>
              <a:t>Risk assessment and DPIA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</a:rPr>
              <a:t>Transparency and information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</a:rPr>
              <a:t>The role of D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</a:rPr>
              <a:t>Data protection by design and by default, Data breach notification, Data 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DPIA paper, guidelines on transparency and information obligations have been circulated to DPOs (19/09) for comments by 10 Octo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he revised paper on the role of the DPOs and a letter on outsourcing, focusing on the new provisions on processors and joint controllers have just been circulated before the EDPS-DPO mee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380360" y="5632560"/>
            <a:ext cx="1519200" cy="1139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84840" y="624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2444760" y="165240"/>
            <a:ext cx="3986280" cy="795240"/>
            <a:chOff x="2444760" y="165240"/>
            <a:chExt cx="3986280" cy="795240"/>
          </a:xfrm>
        </p:grpSpPr>
        <p:sp>
          <p:nvSpPr>
            <p:cNvPr id="68" name="Rounded Rectangle 12"/>
            <p:cNvSpPr/>
            <p:nvPr/>
          </p:nvSpPr>
          <p:spPr>
            <a:xfrm>
              <a:off x="2444760" y="165240"/>
              <a:ext cx="3986280" cy="7952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4"/>
            <p:cNvSpPr/>
            <p:nvPr/>
          </p:nvSpPr>
          <p:spPr>
            <a:xfrm>
              <a:off x="2477880" y="203040"/>
              <a:ext cx="39196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9600" bIns="12960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en-GB" sz="3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3000" spc="-1" strike="noStrike">
                  <a:solidFill>
                    <a:srgbClr val="ffffff"/>
                  </a:solidFill>
                  <a:latin typeface="Arial"/>
                </a:rPr>
                <a:t>New Guidelin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3851280" y="5810400"/>
            <a:ext cx="16048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Diagram 1" descr=""/>
          <p:cNvPicPr/>
          <p:nvPr/>
        </p:nvPicPr>
        <p:blipFill>
          <a:blip r:embed="rId1"/>
          <a:stretch/>
        </p:blipFill>
        <p:spPr>
          <a:xfrm>
            <a:off x="2835360" y="755640"/>
            <a:ext cx="3114720" cy="77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8360" y="1778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Lunch conference trainings to managers (Heads of Units/Heads of Sectors) of the EU institutions at the EUSA:  15 June in FR and 4 October in EN already took pl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Planned: 30 November 2017, 16 February 2017 and 11 May 201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5 October 2017: GB gave speech at a training organised by the public service of Luxembourg on the transition to the GDPR: Key message: "from mere compliance to accountability: the public service should lead by example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S &amp; E staff gave presentations on the fundamental role of the DPOs within the EU institutions and on the controllers' current and new obligations under the proposed Reg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90E5-285E-4450-B7CD-0E9F7C26FCBD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861920" cy="139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 rot="1294200">
            <a:off x="6570360" y="441000"/>
            <a:ext cx="1977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7200" y="836640"/>
            <a:ext cx="405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"/>
              </a:rPr>
              <a:t>Europ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2346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Under EDPS supervision since 1 May 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Specifi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2b800"/>
                </a:solidFill>
                <a:latin typeface="Arial"/>
              </a:rPr>
              <a:t>Main mission: support criminal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2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2b800"/>
                </a:solidFill>
                <a:latin typeface="Arial"/>
              </a:rPr>
              <a:t>Interaction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Legal reg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</a:rPr>
              <a:t>Operational data: Europol Reg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</a:rPr>
              <a:t>Administrative data: Regulation 45/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</a:rPr>
              <a:t>EP amendment on new 45/2001: scope extension to ex third pi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7E0A-5F72-4A0A-8133-BCA2FEC31D0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622920" y="2708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95280" y="231840"/>
            <a:ext cx="18622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46836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B19-215B-49A6-B916-ECE15798DE5B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331640" cy="1122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087640" y="2421000"/>
            <a:ext cx="4572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2000" spc="-1" strike="noStrike">
                <a:solidFill>
                  <a:srgbClr val="333399"/>
                </a:solidFill>
                <a:latin typeface="Arial"/>
                <a:ea typeface="Arial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"/>
                <a:ea typeface="Arial"/>
              </a:rPr>
              <a:t>www.edps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"/>
                <a:ea typeface="Arial"/>
              </a:rPr>
              <a:t>edps@edps.europa.eu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enu_icon_twitter2"/>
          <p:cNvPicPr/>
          <p:nvPr/>
        </p:nvPicPr>
        <p:blipFill>
          <a:blip r:embed="rId2"/>
          <a:stretch/>
        </p:blipFill>
        <p:spPr>
          <a:xfrm>
            <a:off x="3276720" y="5170320"/>
            <a:ext cx="547560" cy="527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95640" y="51703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@EU_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244440" y="147600"/>
            <a:ext cx="2664000" cy="218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\\MUSTALLAMYDOC01\EDPS-UserData$\ukallenberger\Pictures\what-is-eoscar-investigation.png"/>
          <p:cNvPicPr/>
          <p:nvPr/>
        </p:nvPicPr>
        <p:blipFill>
          <a:blip r:embed="rId4"/>
          <a:stretch/>
        </p:blipFill>
        <p:spPr>
          <a:xfrm>
            <a:off x="468360" y="3595680"/>
            <a:ext cx="150984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21:41Z</dcterms:created>
  <dc:creator>Agnieszka Nyka</dc:creator>
  <dc:description/>
  <dc:language>en-US</dc:language>
  <cp:lastModifiedBy>MAYEUR Francoise</cp:lastModifiedBy>
  <cp:lastPrinted>2017-10-12T11:01:39Z</cp:lastPrinted>
  <dcterms:modified xsi:type="dcterms:W3CDTF">2017-10-12T11:01:45Z</dcterms:modified>
  <cp:revision>515</cp:revision>
  <dc:subject/>
  <dc:title>- Title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O$NOPARSEFILE">
    <vt:lpwstr/>
  </property>
  <property fmtid="{D5CDD505-2E9C-101B-9397-08002B2CF9AE}" pid="3" name="COO$NOUSEREXPRESSIONS">
    <vt:lpwstr/>
  </property>
  <property fmtid="{D5CDD505-2E9C-101B-9397-08002B2CF9AE}" pid="4" name="COO$NOVIRTUALATTRS">
    <vt:lpwstr/>
  </property>
  <property fmtid="{D5CDD505-2E9C-101B-9397-08002B2CF9AE}" pid="5" name="FSC#COOSYSTEM@1.1:Container">
    <vt:lpwstr>COO.6515.100.4.302037</vt:lpwstr>
  </property>
  <property fmtid="{D5CDD505-2E9C-101B-9397-08002B2CF9AE}" pid="6" name="FSC#FSCFOLIO@1.1001:docpropproject">
    <vt:lpwstr/>
  </property>
  <property fmtid="{D5CDD505-2E9C-101B-9397-08002B2CF9AE}" pid="7" name="FSC$NOPARSEFILE">
    <vt:lpwstr/>
  </property>
  <property fmtid="{D5CDD505-2E9C-101B-9397-08002B2CF9AE}" pid="8" name="FSC$NOUSEREXPRESSIONS">
    <vt:lpwstr/>
  </property>
  <property fmtid="{D5CDD505-2E9C-101B-9397-08002B2CF9AE}" pid="9" name="FSC$NOVIRTUALATTRS">
    <vt:lpwstr/>
  </property>
</Properties>
</file>