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779640" y="0"/>
            <a:ext cx="288756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-360" y="9263160"/>
            <a:ext cx="288756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779640" y="9263160"/>
            <a:ext cx="288756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9651999E-AC9A-48D3-8E2A-7F53ACDD1A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780000" y="9263160"/>
            <a:ext cx="2887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0FB3B1B5-A479-4B14-84F6-92457B173C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780000" y="9263160"/>
            <a:ext cx="2887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0AE033F-B991-49F9-BD48-C5D2ADC1D9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E985-76EF-4931-8B9E-A4AD33491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DDA9-5711-4453-85E1-CE68A60B7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86CD-B459-4867-A09B-1C040DC1E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53E8-B00F-444D-882E-E680FE0725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27B0-2ACE-472B-942A-B423C5C726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6613D-B6AC-4B70-874B-73C01D941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EEA5-6DA3-455B-AA9F-9C7465A7C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ABDC0-0D0F-4FFC-945D-95229E769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B555-D95D-4FAA-A77E-8F95281E2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2B54-1C4C-4743-9294-73051A5BC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F0B1-57A8-4506-8ACE-F1399315E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5CD1-CCF5-4714-9FEC-E92D075CC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875640" y="6165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BCC6-4E84-4BF3-8FDC-C8918A8FF01B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dps.europa.eu/" TargetMode="External"/><Relationship Id="rId2" Type="http://schemas.openxmlformats.org/officeDocument/2006/relationships/hyperlink" Target="mailto:edps@edps.europa.eu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59280" y="1052640"/>
            <a:ext cx="5688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view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case la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348000" y="3141360"/>
            <a:ext cx="495000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Christopher Docks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DPS meeting with DP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P, Brussels, 31 May 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4368960"/>
            <a:ext cx="9144000" cy="2489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277488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4"/>
          <p:cNvSpPr/>
          <p:nvPr/>
        </p:nvSpPr>
        <p:spPr>
          <a:xfrm>
            <a:off x="6948360" y="6386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D1EA-1728-4818-8058-5D60F70E4CBA}" type="slidenum"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7800" y="1557000"/>
            <a:ext cx="91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73"/>
                </a:solidFill>
                <a:latin typeface="Calibri"/>
              </a:rPr>
              <a:t>(b) competence of national DPA  - depends on 2 fac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controller must have establishment in 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Processing must be undertaken “in the context of the activities” of that establish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FB Germany an establishment of FB Ireland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Has a ‘real and effective activity’ (C-131/12, </a:t>
            </a:r>
            <a:r>
              <a:rPr b="0" i="1" lang="en-GB" sz="2800" spc="-1" strike="noStrike">
                <a:solidFill>
                  <a:srgbClr val="262673"/>
                </a:solidFill>
                <a:latin typeface="Calibri"/>
              </a:rPr>
              <a:t>Google Spain</a:t>
            </a: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ULD can exercise powers both D, established in DE, and against FB Ireland (C-230/14, </a:t>
            </a:r>
            <a:r>
              <a:rPr b="0" i="1" lang="en-GB" sz="2800" spc="-1" strike="noStrike">
                <a:solidFill>
                  <a:srgbClr val="262673"/>
                </a:solidFill>
                <a:latin typeface="Calibri"/>
              </a:rPr>
              <a:t>Weltimmo</a:t>
            </a: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73"/>
                </a:solidFill>
                <a:latin typeface="Calibri"/>
              </a:rPr>
              <a:t>(c) Re FB Ireland, no need to consult DPA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Cf GDPR art 56: one-stop shop, Irish DPC is lead supervisory authority because FB Ireland is main establish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104240" y="87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1332000" cy="11224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1258920" y="189000"/>
            <a:ext cx="7559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alibri"/>
              </a:rPr>
              <a:t>Case C-210/16, ULD v </a:t>
            </a: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Wirtschaftsakademie (</a:t>
            </a:r>
            <a:r>
              <a:rPr b="1" i="1" lang="fr-FR" sz="4400" spc="-1" strike="noStrike">
                <a:solidFill>
                  <a:srgbClr val="333399"/>
                </a:solidFill>
                <a:latin typeface="Calibri"/>
              </a:rPr>
              <a:t>fansites</a:t>
            </a: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en-GB" sz="4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6948360" y="6386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D407-B2EA-4560-9B16-7DD04F0444F8}" type="slidenum"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4560" y="1341360"/>
            <a:ext cx="910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Analogous to </a:t>
            </a:r>
            <a:r>
              <a:rPr b="0" i="1" lang="en-GB" sz="2800" spc="-1" strike="noStrike">
                <a:solidFill>
                  <a:srgbClr val="262673"/>
                </a:solidFill>
                <a:latin typeface="Calibri"/>
              </a:rPr>
              <a:t>Wirtschaftsakadem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Website manager embedded  a “social plugin”, a programming code (Facebook “Like” button) of third party (FB) which, when activated, transmitted PD to F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Uses “Facebook Insights” using behaviour web tracking cookies to compile viewing statistics (&amp; FB targeted a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Consumer protection association complained against Fashion ID for enabling FB to track users of its website without their knowledge or con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AG Bot : Fashion ID is a </a:t>
            </a:r>
            <a:r>
              <a:rPr b="0" i="1" lang="en-GB" sz="2800" spc="-1" strike="noStrike">
                <a:solidFill>
                  <a:srgbClr val="262673"/>
                </a:solidFill>
                <a:latin typeface="Calibri"/>
              </a:rPr>
              <a:t>controller</a:t>
            </a: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 in same way as in C-210/16 because of its </a:t>
            </a:r>
            <a:r>
              <a:rPr b="0" i="1" lang="en-GB" sz="2800" spc="-1" strike="noStrike">
                <a:solidFill>
                  <a:srgbClr val="262673"/>
                </a:solidFill>
                <a:latin typeface="Calibri"/>
              </a:rPr>
              <a:t>de facto </a:t>
            </a: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influence and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104240" y="87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1332000" cy="1122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1258920" y="189000"/>
            <a:ext cx="7559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alibri"/>
              </a:rPr>
              <a:t>Case C-40/17, Fashion 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6948360" y="6386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0459-7F4E-4345-8756-FCC29CBD9B8A}" type="slidenum"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7800" y="1557360"/>
            <a:ext cx="910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alibri"/>
              </a:rPr>
              <a:t>Religious group had practice of manually recording data after door-to-door preaching visits, particularly religious affiliation, without informing the individuals concer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alibri"/>
              </a:rPr>
              <a:t>DPB decided to prohibit Jehovah’s Witnesses from processing this data unless it respected the DP legis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alibri"/>
              </a:rPr>
              <a:t>On appeal, FIN Supreme Administrative Court asked CJE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alibri"/>
              </a:rPr>
              <a:t>Does preaching fall inside exceptions to DPD under art 3(2) for state or « purely personal » </a:t>
            </a:r>
            <a:r>
              <a:rPr b="0" lang="en-GB" sz="2800" spc="-1" strike="noStrike">
                <a:solidFill>
                  <a:srgbClr val="333399"/>
                </a:solidFill>
                <a:latin typeface="Calibri"/>
              </a:rPr>
              <a:t>activity</a:t>
            </a:r>
            <a:r>
              <a:rPr b="0" lang="fr-FR" sz="2800" spc="-1" strike="noStrike">
                <a:solidFill>
                  <a:srgbClr val="333399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alibri"/>
              </a:rPr>
              <a:t>Do the paper records constitute a « filing system »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alibri"/>
              </a:rPr>
              <a:t>Are JW and its members controll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104240" y="87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1332000" cy="1122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258920" y="189000"/>
            <a:ext cx="7559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alibri"/>
              </a:rPr>
              <a:t>Case C-25/17, Finnish DP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alibri"/>
              </a:rPr>
              <a:t>v Jehovah’s Wit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6948360" y="6386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ED9B-DD68-4287-94C1-3D3A409F9377}" type="slidenum"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7800" y="1557360"/>
            <a:ext cx="910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Calibri"/>
              </a:rPr>
              <a:t>AG Mengozzi, 1 February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Calibri"/>
              </a:rPr>
              <a:t>exceptions</a:t>
            </a:r>
            <a:r>
              <a:rPr b="0" lang="en-GB" sz="28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alibri"/>
              </a:rPr>
              <a:t>to fundamental rights must be interpreted restrictiv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alibri"/>
              </a:rPr>
              <a:t>art 3(2) sets out a complete list, not a state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alibri"/>
              </a:rPr>
              <a:t>art 17 TFEU recognises status under national law of religious associations, but reference to them in DPD (rec 35) and GDPR (rec 55, art 91) confirms respect for DP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alibri"/>
              </a:rPr>
              <a:t>Proselytising outside or inside people’s homes is not a “household” or “purely personal”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alibri"/>
              </a:rPr>
              <a:t>Freedom of religion under art 10 Charter is guaranteed by freedom to preach</a:t>
            </a:r>
            <a:r>
              <a:rPr b="0" lang="fr-FR" sz="2800" spc="-1" strike="noStrike">
                <a:solidFill>
                  <a:srgbClr val="333399"/>
                </a:solidFill>
                <a:latin typeface="Calibri"/>
              </a:rPr>
              <a:t>, </a:t>
            </a:r>
            <a:r>
              <a:rPr b="0" lang="en-GB" sz="2800" spc="-1" strike="noStrike">
                <a:solidFill>
                  <a:srgbClr val="333399"/>
                </a:solidFill>
                <a:latin typeface="Calibri"/>
              </a:rPr>
              <a:t>must then respect DP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104240" y="87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1332000" cy="11224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258920" y="189000"/>
            <a:ext cx="7559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alibri"/>
              </a:rPr>
              <a:t>Case C-25/17, Finnish D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alibri"/>
              </a:rPr>
              <a:t>v Jehovah’s Wit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6948360" y="6386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CD18-1F14-4397-8749-2305199D470B}" type="slidenum"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7800" y="1557360"/>
            <a:ext cx="910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Calibri"/>
              </a:rPr>
              <a:t>AG Mengozzi, 1 February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Calibri"/>
              </a:rPr>
              <a:t>A </a:t>
            </a:r>
            <a:r>
              <a:rPr b="1" i="1" lang="fr-FR" sz="2800" spc="-1" strike="noStrike">
                <a:solidFill>
                  <a:srgbClr val="333399"/>
                </a:solidFill>
                <a:latin typeface="Calibri"/>
              </a:rPr>
              <a:t>filing system </a:t>
            </a:r>
            <a:r>
              <a:rPr b="1" lang="fr-FR" sz="2800" spc="-1" strike="noStrike">
                <a:solidFill>
                  <a:srgbClr val="333399"/>
                </a:solidFill>
                <a:latin typeface="Calibri"/>
              </a:rPr>
              <a:t>becau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alibri"/>
              </a:rPr>
              <a:t>art 2(c) « any structured set of personal data which are accessible according to specific criteria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alibri"/>
              </a:rPr>
              <a:t>recital 15 « structured according to specific criteria relating to individuals, so as to permit easy access to the PD in question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alibri"/>
              </a:rPr>
              <a:t>Manual records structured geographically, to perpetuate the memory of the preaching work, an « aide-memoire ». Easy to access PD to prepare for subsequent visits with specific individu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104240" y="87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1332000" cy="11224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1258920" y="189000"/>
            <a:ext cx="7559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alibri"/>
              </a:rPr>
              <a:t>Case C-25/17, Finnish D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alibri"/>
              </a:rPr>
              <a:t>v Jehovah’s Wit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6948360" y="6386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C4FF-C56E-4CB8-B680-E89F0193EE02}" type="slidenum"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7800" y="1557360"/>
            <a:ext cx="910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Calibri"/>
              </a:rPr>
              <a:t>AG Mengozzi, 1 February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Calibri"/>
              </a:rPr>
              <a:t>JW is a controller under art 2(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alibri"/>
              </a:rPr>
              <a:t>WP29 Op 1/2010 :  a factual rather than a formal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alibri"/>
              </a:rPr>
              <a:t>Though JW does not have access to PD collected, it arranges areas of activity for preachers, monitors their activity, maintains a do-not-visit list, produces instructions for taking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alibri"/>
              </a:rPr>
              <a:t>In any event, de facto influence enough to be a control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alibri"/>
              </a:rPr>
              <a:t>In fact JW determines the purpose of the processing of P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alibri"/>
              </a:rPr>
              <a:t>May also be shared control with individual members (see AG Bot in </a:t>
            </a:r>
            <a:r>
              <a:rPr b="0" i="1" lang="fr-FR" sz="2800" spc="-1" strike="noStrike">
                <a:solidFill>
                  <a:srgbClr val="333399"/>
                </a:solidFill>
                <a:latin typeface="Calibri"/>
              </a:rPr>
              <a:t>Wirtschaftsakademie</a:t>
            </a:r>
            <a:r>
              <a:rPr b="0" lang="fr-FR" sz="28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104240" y="87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1332000" cy="11224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1258920" y="189000"/>
            <a:ext cx="7559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alibri"/>
              </a:rPr>
              <a:t>Case C-25/17, Finnish D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alibri"/>
              </a:rPr>
              <a:t>v Jehovah’s Wit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75640" y="6165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849E-CA6C-4EFB-8486-351EABBA4384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68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99"/>
                </a:solidFill>
                <a:latin typeface="Calibri"/>
              </a:rPr>
              <a:t>Tele2 and Watson </a:t>
            </a:r>
            <a:r>
              <a:rPr b="1" lang="en-GB" sz="3200" spc="-1" strike="noStrike">
                <a:solidFill>
                  <a:srgbClr val="333399"/>
                </a:solidFill>
                <a:latin typeface="Calibri"/>
              </a:rPr>
              <a:t>21/12/16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Calibri"/>
              </a:rPr>
              <a:t>Joined Cases C-203/15 C-698/15</a:t>
            </a:r>
            <a:br>
              <a:rPr sz="3200"/>
            </a:b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935000"/>
            <a:ext cx="91328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Following </a:t>
            </a:r>
            <a:r>
              <a:rPr b="0" i="1" lang="en-GB" sz="2800" spc="-1" strike="noStrike">
                <a:solidFill>
                  <a:srgbClr val="000090"/>
                </a:solidFill>
                <a:latin typeface="Calibri"/>
              </a:rPr>
              <a:t>DRI</a:t>
            </a: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, data retention left to national law under art 15(1) ePrivacy Directive. </a:t>
            </a:r>
            <a:r>
              <a:rPr b="0" lang="en-GB" sz="2800" spc="-1" strike="noStrike">
                <a:solidFill>
                  <a:srgbClr val="333399"/>
                </a:solidFill>
                <a:latin typeface="Calibri"/>
              </a:rPr>
              <a:t>In SV </a:t>
            </a: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Tele2 decided to cease retaining data;  in UK, govt adopted specific new Regs (DRIPA 2014) which challenged by MP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alibri"/>
              </a:rPr>
              <a:t>References from Swedish and English Courts of Appe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alibri"/>
                <a:ea typeface="Arial"/>
              </a:rPr>
              <a:t>Retention of Dat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alibri"/>
                <a:ea typeface="Arial"/>
              </a:rPr>
              <a:t>Metadata as revealing as content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alibri"/>
                <a:ea typeface="Arial"/>
              </a:rPr>
              <a:t>Makes profiling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alibri"/>
              </a:rPr>
              <a:t>Data liable to allow very precise conclusions to be drawn on private lives, feeling that under constant surveil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133200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68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alibri"/>
              </a:rPr>
              <a:t>Tele2 and Wats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8560" y="1413000"/>
            <a:ext cx="87850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CJEU ru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a) data retention</a:t>
            </a:r>
            <a:r>
              <a:rPr b="0" lang="en-US" sz="2800" spc="-1" strike="noStrike">
                <a:solidFill>
                  <a:srgbClr val="333399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</a:rPr>
              <a:t>only serious crime can justify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</a:rPr>
              <a:t>precludes national legislation which provides for general and indiscriminate retention of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b) access: </a:t>
            </a:r>
            <a:r>
              <a:rPr b="0" lang="en-US" sz="2800" spc="-1" strike="noStrike">
                <a:solidFill>
                  <a:srgbClr val="333399"/>
                </a:solidFill>
                <a:latin typeface="Calibri"/>
              </a:rPr>
              <a:t>national legislation precluded whe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</a:rPr>
              <a:t>Objective not limited to fighting serious cr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</a:rPr>
              <a:t>Access not subject to prior review by court or independent administrative autho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</a:rPr>
              <a:t>No requirement to retain data in the EU and destroy it at end of retention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0282-930E-42FA-9C31-85434DE286AE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133200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8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alibri"/>
              </a:rPr>
              <a:t>Tele2 and Watson follow-up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8000" y="1412640"/>
            <a:ext cx="9036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Case C-203/15, Tele2, Admin. CA Stockholm, 22 Dec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</a:rPr>
              <a:t>SV data retention legislation inval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</a:rPr>
              <a:t>Annulled PTS decision requiring Tele2 to retain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Case C-698/15, Watson et al, CA London 30 January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</a:rPr>
              <a:t>Following a review, UK had adopted Investigatory Powers Act on 30 December 2016, to replace DRI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</a:rPr>
              <a:t>CA declared that DRIPA incompatible with EU law to extent that permitted access to data for purpose not limited to fighting serious crime and where no prior re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</a:rPr>
              <a:t>Other matters left for reference in Case C-623/17, </a:t>
            </a:r>
            <a:r>
              <a:rPr b="0" i="1" lang="en-US" sz="2800" spc="-1" strike="noStrike">
                <a:solidFill>
                  <a:srgbClr val="333399"/>
                </a:solidFill>
                <a:latin typeface="Calibri"/>
              </a:rPr>
              <a:t>Privacy Internation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97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8AD2-9699-471C-A56F-9EC9DFBD20CE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133200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6875640" y="6165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D01A-388D-4FDD-9923-A774AF441D8E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9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International agreements form part of EU legal order and must be compatible with Treaties and princi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9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Agreement had 2 linked components, thus 2 legal ba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700"/>
              </a:spcBef>
              <a:buClr>
                <a:srgbClr val="00009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Protecting PNR data: art 16(2) TFE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700"/>
              </a:spcBef>
              <a:buClr>
                <a:srgbClr val="00009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ensuring public security:  art 87(2)(a) TFE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9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Processing of PNR/personal data affects right to privacy/art 7 CFR and data protection / art 8 CFR.  </a:t>
            </a:r>
            <a:r>
              <a:rPr b="1" lang="en-GB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Justification</a:t>
            </a:r>
            <a:r>
              <a:rPr b="0" lang="en-GB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700"/>
              </a:spcBef>
              <a:buClr>
                <a:srgbClr val="00009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90"/>
                </a:solidFill>
                <a:latin typeface="Calibri"/>
              </a:rPr>
              <a:t>law - </a:t>
            </a: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Ag is external equivalent of legislative 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700"/>
              </a:spcBef>
              <a:buClr>
                <a:srgbClr val="00009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90"/>
                </a:solidFill>
                <a:latin typeface="Calibri"/>
              </a:rPr>
              <a:t>legitimate objective </a:t>
            </a: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of protecting public security, fighting terrorism and serious transnational cr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700"/>
              </a:spcBef>
              <a:buClr>
                <a:srgbClr val="00009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90"/>
                </a:solidFill>
                <a:latin typeface="Calibri"/>
              </a:rPr>
              <a:t>d</a:t>
            </a: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id not adversely affect </a:t>
            </a:r>
            <a:r>
              <a:rPr b="1" lang="en-GB" sz="2800" spc="-1" strike="noStrike">
                <a:solidFill>
                  <a:srgbClr val="000090"/>
                </a:solidFill>
                <a:latin typeface="Calibri"/>
              </a:rPr>
              <a:t>essence</a:t>
            </a: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 of either r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1332000" cy="1122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755640" y="404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0"/>
                </a:solidFill>
                <a:latin typeface="Arial"/>
              </a:rPr>
              <a:t>Opinion 1/15, Canada-EU PNR </a:t>
            </a:r>
            <a:br>
              <a:rPr sz="3600"/>
            </a:br>
            <a:r>
              <a:rPr b="1" lang="en-GB" sz="3600" spc="-1" strike="noStrike">
                <a:solidFill>
                  <a:srgbClr val="000090"/>
                </a:solidFill>
                <a:latin typeface="Arial"/>
              </a:rPr>
              <a:t>CJEU 26 July 2017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3"/>
          <p:cNvSpPr/>
          <p:nvPr/>
        </p:nvSpPr>
        <p:spPr>
          <a:xfrm>
            <a:off x="6875640" y="6165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979F-25E3-46CC-AEC1-15A0D6B8D0ED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ase Law for discu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480" y="1154160"/>
            <a:ext cx="9029520" cy="57038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alibri"/>
              </a:rPr>
              <a:t>Right of access, definition of personal dat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Calibri"/>
              </a:rPr>
              <a:t>C-434/16</a:t>
            </a:r>
            <a:r>
              <a:rPr b="0" lang="en-GB" sz="2400" spc="-1" strike="noStrike">
                <a:solidFill>
                  <a:srgbClr val="333399"/>
                </a:solidFill>
                <a:latin typeface="Calibri"/>
              </a:rPr>
              <a:t>, Nowak v DPC, CJEU 20 December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alibri"/>
              </a:rPr>
              <a:t>Controller, applicable l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alibri"/>
              </a:rPr>
              <a:t>C-210/16, Wirtschaftsakademie, AG Bot 24 October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alibri"/>
              </a:rPr>
              <a:t>C-40/17, Fashion ID (pend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alibri"/>
              </a:rPr>
              <a:t>Personal data, controller, freedom of reli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333399"/>
                </a:solidFill>
                <a:latin typeface="Calibri"/>
              </a:rPr>
              <a:t>Case C-25/17, Jehovah’s Witnesses, AG Mengozzi 1 February 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alibri"/>
              </a:rPr>
              <a:t>Surveillance </a:t>
            </a:r>
            <a:r>
              <a:rPr b="1" lang="mr-IN" sz="2800" spc="-1" strike="noStrike">
                <a:solidFill>
                  <a:srgbClr val="333399"/>
                </a:solidFill>
                <a:latin typeface="Calibri"/>
              </a:rPr>
              <a:t>–</a:t>
            </a:r>
            <a:r>
              <a:rPr b="1" lang="en-GB" sz="2800" spc="-1" strike="noStrike">
                <a:solidFill>
                  <a:srgbClr val="333399"/>
                </a:solidFill>
                <a:latin typeface="Calibri"/>
              </a:rPr>
              <a:t> follow-up Tele2 &amp; Wat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alibri"/>
              </a:rPr>
              <a:t>AdminCA Stockholm 22 December 2016, CA London 30 January 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alibri"/>
              </a:rPr>
              <a:t>C-623/17, Privacy International </a:t>
            </a:r>
            <a:r>
              <a:rPr b="0" lang="fr-FR" sz="2400" spc="-1" strike="noStrike">
                <a:solidFill>
                  <a:srgbClr val="333399"/>
                </a:solidFill>
                <a:latin typeface="Calibri"/>
              </a:rPr>
              <a:t>(pend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alibri"/>
              </a:rPr>
              <a:t>Opinion 1/15, CJEU 26 July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alibri"/>
              </a:rPr>
              <a:t>C-207/16, Ministerio Fiscal, AG Saugmandsgaard Øe, 3 May 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133200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6875640" y="6165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EB44-4983-4687-8412-F94CF3758333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d) Necess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9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transfer and storage of PNR data of </a:t>
            </a:r>
            <a:r>
              <a:rPr b="0" i="1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all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 passengers entering Canada necessary for security and border control (citing Chicago Convention) </a:t>
            </a:r>
            <a:r>
              <a:rPr b="0" lang="en-GB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9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OK to </a:t>
            </a:r>
            <a:r>
              <a:rPr b="0" i="1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store 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data during passenger’s stay in Canada, but may only </a:t>
            </a:r>
            <a:r>
              <a:rPr b="0" i="1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use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 it if have a specific justification, eg objective evidence, and specific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9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R</a:t>
            </a:r>
            <a:r>
              <a:rPr b="0" lang="en-GB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etention of data of all 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passengers after their departure from Canada is not strictly necessary, but justifiable to retain data on specific individuals for the 5 year period if based on objective criteria, following prior review of court or independent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1332000" cy="1122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7714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0"/>
                </a:solidFill>
                <a:latin typeface="Arial"/>
              </a:rPr>
              <a:t>Opinion 1/15, Canada-EU PNR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6875640" y="6165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0A68-27DD-4DE6-AAE3-9ACC2DD4AEDA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AG Saugmandsgaard Øe, 3 May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9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Police investigating theft of wallet and mobile phone requested access to ID data of users of phone numbers activated from stolen phone during 12 days from th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9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Magistrate refused, not a serious offence as required by Spanish law for disclosure of identification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9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AG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:  the requested access constitutes an interference with rights to privacy and data protection.  Howev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9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In </a:t>
            </a:r>
            <a:r>
              <a:rPr b="0" i="1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DRI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 and </a:t>
            </a:r>
            <a:r>
              <a:rPr b="0" i="1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Tele2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 the CJEU established a link between seriousness of i) interference ii) justification:  only where the interference is particularly serious must the offences justifying it be  particularly seriou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1332000" cy="1122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7148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0"/>
                </a:solidFill>
                <a:latin typeface="Arial"/>
              </a:rPr>
              <a:t>C-207/16, Ministerio Fisc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6875640" y="6165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CC76-5826-49E1-BAE0-8AD55680DE3F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AG Saugmandsgaard Ø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Not a serious interference in present case becaus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9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a targeted measure:  data restricted to identity (names and possibly address) of a restricted category of users (phoned from stolen pho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9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a limited period : 12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9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limited disclosure to police investig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9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procedural safeguard of prior judicial re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Where the interference is not serious, then less serious offences may justify it.  EU law does not preclude access to communications data in such circum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1332000" cy="1122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7148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0"/>
                </a:solidFill>
                <a:latin typeface="Arial"/>
              </a:rPr>
              <a:t>C-207/16, Ministerio Fisc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7280" y="2997360"/>
            <a:ext cx="85694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 algn="ctr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262673"/>
                </a:solidFill>
                <a:latin typeface="Calibri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 algn="ctr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62673"/>
                </a:solidFill>
                <a:latin typeface="Calibri"/>
              </a:rPr>
              <a:t>For more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edps.europa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edps@edps.europa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108000" y="31680"/>
            <a:ext cx="1332000" cy="1122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menu_icon_twitter2"/>
          <p:cNvPicPr/>
          <p:nvPr/>
        </p:nvPicPr>
        <p:blipFill>
          <a:blip r:embed="rId4"/>
          <a:stretch/>
        </p:blipFill>
        <p:spPr>
          <a:xfrm>
            <a:off x="3419640" y="5661000"/>
            <a:ext cx="547560" cy="5270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4284720" y="566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62673"/>
                </a:solidFill>
                <a:latin typeface="Arial"/>
              </a:rPr>
              <a:t>@EU_ED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5"/>
          <a:stretch/>
        </p:blipFill>
        <p:spPr>
          <a:xfrm>
            <a:off x="1116000" y="404640"/>
            <a:ext cx="6012000" cy="3076920"/>
          </a:xfrm>
          <a:prstGeom prst="rect">
            <a:avLst/>
          </a:prstGeom>
          <a:ln w="0">
            <a:noFill/>
          </a:ln>
        </p:spPr>
      </p:pic>
      <p:sp>
        <p:nvSpPr>
          <p:cNvPr id="150" name="Slide Number Placeholder 3"/>
          <p:cNvSpPr/>
          <p:nvPr/>
        </p:nvSpPr>
        <p:spPr>
          <a:xfrm>
            <a:off x="8528040" y="6462720"/>
            <a:ext cx="3999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62673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6875640" y="6165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5223-3CE7-47D6-B0D2-C1EF84F92524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4480" y="1154160"/>
            <a:ext cx="9029520" cy="57038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alibri"/>
              </a:rPr>
              <a:t>Right to be Forgot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Calibri"/>
              </a:rPr>
              <a:t>NT1 &amp; NT2 v Google (High Court London) 13 April 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Calibri"/>
              </a:rPr>
              <a:t>C-136/17, GC et al v </a:t>
            </a:r>
            <a:r>
              <a:rPr b="0" lang="cs-CZ" sz="2400" spc="-1" strike="noStrike">
                <a:solidFill>
                  <a:srgbClr val="333399"/>
                </a:solidFill>
                <a:latin typeface="Calibri"/>
              </a:rPr>
              <a:t>CNIL (sensitive data) </a:t>
            </a:r>
            <a:r>
              <a:rPr b="0" lang="fr-FR" sz="2400" spc="-1" strike="noStrike">
                <a:solidFill>
                  <a:srgbClr val="333399"/>
                </a:solidFill>
                <a:latin typeface="Calibri"/>
              </a:rPr>
              <a:t>(pend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Calibri"/>
              </a:rPr>
              <a:t>C-507/17, Google v CNIL (territorial scope of removal) </a:t>
            </a:r>
            <a:r>
              <a:rPr b="0" lang="fr-FR" sz="2400" spc="-1" strike="noStrike">
                <a:solidFill>
                  <a:srgbClr val="333399"/>
                </a:solidFill>
                <a:latin typeface="Calibri"/>
              </a:rPr>
              <a:t>(pend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alibri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alibri"/>
              </a:rPr>
              <a:t>T-670/16 DRI II (inadmissible 22nov1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alibri"/>
              </a:rPr>
              <a:t>T-738/16 La Quadrature du Net (pend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alibri"/>
              </a:rPr>
              <a:t>Case C-498/16, Schrems v Facebook CJEU 25 January 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alibri"/>
              </a:rPr>
              <a:t>Post 25 May GDPR:  GAFAM, MY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alibri"/>
              </a:rPr>
              <a:t>Mass surveil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alibri"/>
              </a:rPr>
              <a:t>Schrems III - DPC v Facebook &amp; Schrems, High Court IRL, 3oct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alibri"/>
              </a:rPr>
              <a:t>Big Brother Watch et al v UK, no 58170/13, etc (pending, ECH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1332000" cy="1122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ther C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4"/>
          <p:cNvSpPr/>
          <p:nvPr/>
        </p:nvSpPr>
        <p:spPr>
          <a:xfrm>
            <a:off x="6948360" y="6386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BE52-7CC3-4DA5-B544-2160C656E71C}" type="slidenum"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910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Trainee accountant failed one accountancy exam 4 ti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Questioned the 4</a:t>
            </a:r>
            <a:r>
              <a:rPr b="0" lang="en-GB" sz="2800" spc="-1" strike="noStrike" baseline="30000">
                <a:solidFill>
                  <a:srgbClr val="262673"/>
                </a:solidFill>
                <a:latin typeface="Calibri"/>
              </a:rPr>
              <a:t>th</a:t>
            </a: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 result, then requested access to all ‘personal data’ (PD) held by the accountancy body, the C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Received 17 items, but not the exam script, not “P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Asked Irl DPC for help, but DPC concluded that not P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Challenged DPC decision before cts, Supreme Court asked CJEU whether exam script is PD and what factors are relevant in concluding whether it is P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Q also raised before CJEU whether examiner’s corrections to a script also constitute personal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Calibri"/>
              </a:rPr>
              <a:t>Cf Joined Cases </a:t>
            </a:r>
            <a:r>
              <a:rPr b="0" lang="en-US" sz="2000" spc="-1" strike="noStrike">
                <a:solidFill>
                  <a:srgbClr val="262673"/>
                </a:solidFill>
                <a:latin typeface="Calibri"/>
              </a:rPr>
              <a:t>C-141/12 and C-372/12, </a:t>
            </a:r>
            <a:r>
              <a:rPr b="0" i="1" lang="fr-FR" sz="2000" spc="-1" strike="noStrike">
                <a:solidFill>
                  <a:srgbClr val="262673"/>
                </a:solidFill>
                <a:latin typeface="Calibri"/>
              </a:rPr>
              <a:t>YS and Others</a:t>
            </a:r>
            <a:r>
              <a:rPr b="0" lang="fr-FR" sz="2000" spc="-1" strike="noStrike">
                <a:solidFill>
                  <a:srgbClr val="262673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262673"/>
                </a:solidFill>
                <a:latin typeface="Calibri"/>
              </a:rPr>
              <a:t>17 July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7104240" y="87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1332000" cy="11224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1476360" y="476280"/>
            <a:ext cx="7054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alibri"/>
              </a:rPr>
              <a:t>Case C-434/16, Nowak v DP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6875640" y="6165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F86D-E878-4D4F-A2DC-33BB8460A452}" type="slidenum">
              <a:rPr b="0" lang="en-GB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859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62673"/>
                </a:solidFill>
                <a:latin typeface="Calibri"/>
              </a:rPr>
              <a:t>YS v Minister voor Immigratie</a:t>
            </a:r>
            <a:br>
              <a:rPr sz="4000"/>
            </a:br>
            <a:r>
              <a:rPr b="1" lang="en-GB" sz="3200" spc="-1" strike="noStrike">
                <a:solidFill>
                  <a:srgbClr val="262673"/>
                </a:solidFill>
                <a:latin typeface="Calibri"/>
              </a:rPr>
              <a:t>C-141/12 and C-373/12, 17 Jul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3rd country nationals applied for residence in N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requested access under art 12(a) of Dir 95/46 to document containing legal analysis of ap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alibri"/>
              </a:rPr>
              <a:t>CJEU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Information relating to an individual is personal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Legal analysis does not relate to P, is only information about legal assessment of P’s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Otherwise right of access to personal data would become a right of access to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Providing a “full summary of those data in an intelligible form” is suffic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133200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6948360" y="6386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A4B1-AB43-4BB8-8FE8-62091D4AA735}" type="slidenum"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560" y="1430280"/>
            <a:ext cx="910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73"/>
                </a:solidFill>
                <a:latin typeface="Calibri"/>
              </a:rPr>
              <a:t>CJEU </a:t>
            </a:r>
            <a:r>
              <a:rPr b="1" lang="en-GB" sz="2800" spc="-1" strike="noStrike">
                <a:solidFill>
                  <a:srgbClr val="333399"/>
                </a:solidFill>
                <a:latin typeface="Calibri"/>
              </a:rPr>
              <a:t>20 December 201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73"/>
                </a:solidFill>
                <a:latin typeface="Calibri"/>
              </a:rPr>
              <a:t>a) Personal data (PD) (applying WP29 2007 Opin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Calibri"/>
              </a:rPr>
              <a:t>A</a:t>
            </a: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ffirmed </a:t>
            </a:r>
            <a:r>
              <a:rPr b="0" i="1" lang="en-GB" sz="2800" spc="-1" strike="noStrike">
                <a:solidFill>
                  <a:srgbClr val="262673"/>
                </a:solidFill>
                <a:latin typeface="Calibri"/>
              </a:rPr>
              <a:t>Breyer</a:t>
            </a: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, identification data may be separated, pseudonymised data is P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Wide scope of </a:t>
            </a:r>
            <a:r>
              <a:rPr b="0" i="1" lang="en-GB" sz="2800" spc="-1" strike="noStrike">
                <a:solidFill>
                  <a:srgbClr val="262673"/>
                </a:solidFill>
                <a:latin typeface="Calibri"/>
              </a:rPr>
              <a:t>any information, </a:t>
            </a: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may be objective or subjective, PD so long as </a:t>
            </a:r>
            <a:r>
              <a:rPr b="0" i="1" lang="en-GB" sz="2800" spc="-1" strike="noStrike">
                <a:solidFill>
                  <a:srgbClr val="262673"/>
                </a:solidFill>
                <a:latin typeface="Calibri"/>
              </a:rPr>
              <a:t>relates to </a:t>
            </a: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particular person, applying three WP29 te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262673"/>
                </a:solidFill>
                <a:latin typeface="Calibri"/>
              </a:rPr>
              <a:t>Content</a:t>
            </a: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 of exam script reflects candidate’s knowledge;  handwriting sample can also provide information on 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262673"/>
                </a:solidFill>
                <a:latin typeface="Calibri"/>
              </a:rPr>
              <a:t>Purpose</a:t>
            </a: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 is to evaluate candidate profession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262673"/>
                </a:solidFill>
                <a:latin typeface="Calibri"/>
              </a:rPr>
              <a:t>Effect </a:t>
            </a: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is access to a profession or a p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104240" y="87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1332000" cy="11224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1476360" y="476280"/>
            <a:ext cx="7054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alibri"/>
              </a:rPr>
              <a:t>Case C-434/16, Nowak v DP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6948360" y="6386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0173-2201-4DF2-B31D-6338A29F1532}" type="slidenum"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7800" y="1413000"/>
            <a:ext cx="910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73"/>
                </a:solidFill>
                <a:latin typeface="Calibri"/>
              </a:rPr>
              <a:t>b) Rectification and examiner’s correc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C</a:t>
            </a:r>
            <a:r>
              <a:rPr b="0" lang="fr-FR" sz="2800" spc="-1" strike="noStrike">
                <a:solidFill>
                  <a:srgbClr val="262673"/>
                </a:solidFill>
                <a:latin typeface="Calibri"/>
              </a:rPr>
              <a:t>annot use DP for rectification of own answers or examiner’s comments (not </a:t>
            </a:r>
            <a:r>
              <a:rPr b="0" i="1" lang="fr-FR" sz="2800" spc="-1" strike="noStrike">
                <a:solidFill>
                  <a:srgbClr val="262673"/>
                </a:solidFill>
                <a:latin typeface="Calibri"/>
              </a:rPr>
              <a:t>inaccuracy</a:t>
            </a:r>
            <a:r>
              <a:rPr b="0" lang="fr-FR" sz="2800" spc="-1" strike="noStrike">
                <a:solidFill>
                  <a:srgbClr val="262673"/>
                </a:solidFill>
                <a:latin typeface="Calibri"/>
              </a:rPr>
              <a:t> in sense of DP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62673"/>
                </a:solidFill>
                <a:latin typeface="Calibri"/>
              </a:rPr>
              <a:t>Corrections are part of PD of both DS and examiner, may be necessary to apply exclusion in Art 13 DP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73"/>
                </a:solidFill>
                <a:latin typeface="Calibri"/>
              </a:rPr>
              <a:t>c) Examination questions and restrictions on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Are not PD of candidate, no right of access or rec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Member States may apply an exception under Art 13 DPD, (now broader under Arts 15(4) and 23 of GDP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NB:  see GDPR art 15, para. 3 (provide a copy) and 4 (no adverse effect on rights and freedoms of oth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104240" y="87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1332000" cy="11224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1476360" y="476280"/>
            <a:ext cx="7054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alibri"/>
              </a:rPr>
              <a:t>Case C-434/16, Nowak v DP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6948360" y="6386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3418-B69A-48B7-BCAC-2555130CEB94}" type="slidenum"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8320" y="1773000"/>
            <a:ext cx="91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D provides education and train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Set up a “fan page” on Facebook by contract with FB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“</a:t>
            </a: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Facebook Insights” uses behaviour tracking cookies to compile viewing statistics for D (&amp; targeted ads for F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Neither D nor FB warned users that would track th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62673"/>
                </a:solidFill>
                <a:latin typeface="Calibri"/>
              </a:rPr>
              <a:t>ULD ordered D to deactivate fan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62673"/>
                </a:solidFill>
                <a:latin typeface="Calibri"/>
              </a:rPr>
              <a:t>DE cts set aside ULD decision on ground that D not a controller, finally BVG referred questions to CJEU on (a) controller (b) competence of ULD re FB Ireland and US, and </a:t>
            </a:r>
            <a:r>
              <a:rPr b="0" lang="de-DE" sz="2800" spc="-1" strike="noStrike">
                <a:solidFill>
                  <a:srgbClr val="262673"/>
                </a:solidFill>
                <a:latin typeface="Calibri"/>
              </a:rPr>
              <a:t>(c) whether ULD required to consult first with DPC Ire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7104240" y="87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1332000" cy="11224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971640" y="26028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alibri"/>
              </a:rPr>
              <a:t>Case C-210/16, ULD v </a:t>
            </a: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Wirtschaftsakademie (</a:t>
            </a:r>
            <a:r>
              <a:rPr b="1" i="1" lang="fr-FR" sz="4400" spc="-1" strike="noStrike">
                <a:solidFill>
                  <a:srgbClr val="333399"/>
                </a:solidFill>
                <a:latin typeface="Calibri"/>
              </a:rPr>
              <a:t>fansites</a:t>
            </a: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en-GB" sz="4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6948360" y="6386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BA97-A42D-4081-9DCF-3BF5C8374EF3}" type="slidenum"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8320" y="1773000"/>
            <a:ext cx="91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Calibri"/>
              </a:rPr>
              <a:t>Opinion of AG Bot,  24 October 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73"/>
                </a:solidFill>
                <a:latin typeface="Calibri"/>
              </a:rPr>
              <a:t>(a) took broad view of meaning and scope of “controller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D is a joint controller alongside FB concerning Insights because took decision to create fan page, triggering the cookie-based tracking, and continued to benefit from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A controller does not have to have complete control over proce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73"/>
                </a:solidFill>
                <a:latin typeface="Calibri"/>
              </a:rPr>
              <a:t>The responsibility of each joint controller for unlawful processing is specific to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7104240" y="87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1332000" cy="11224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1258920" y="189000"/>
            <a:ext cx="7559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alibri"/>
              </a:rPr>
              <a:t>Case C-210/16, ULD v </a:t>
            </a: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Wirtschaftsakademie (</a:t>
            </a:r>
            <a:r>
              <a:rPr b="1" i="1" lang="fr-FR" sz="4400" spc="-1" strike="noStrike">
                <a:solidFill>
                  <a:srgbClr val="333399"/>
                </a:solidFill>
                <a:latin typeface="Calibri"/>
              </a:rPr>
              <a:t>fansites</a:t>
            </a: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en-GB" sz="4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4:21:41Z</dcterms:created>
  <dc:creator>Agnieszka Nyka</dc:creator>
  <dc:description/>
  <dc:language>en-US</dc:language>
  <cp:lastModifiedBy>HR Doc</cp:lastModifiedBy>
  <cp:lastPrinted>2018-05-30T21:13:56Z</cp:lastPrinted>
  <dcterms:modified xsi:type="dcterms:W3CDTF">2018-05-31T21:35:16Z</dcterms:modified>
  <cp:revision>312</cp:revision>
  <dc:subject/>
  <dc:title>- Title -</dc:title>
</cp:coreProperties>
</file>