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2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918720" y="744120"/>
            <a:ext cx="496116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3"/>
          </p:nvPr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4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169954F1-49E7-4EB6-9526-70519987BC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3E21988F-A4F8-4060-B7C9-6329CD0BE4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523A011D-46F0-4C1C-9338-D96FA91CB3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360E655C-C39A-43A9-B842-89EE52F25B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5FD7EB67-DF82-40CF-9A3A-1F00D226DC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1FE4493C-BF9F-488A-984C-ED0BF1361D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A7A4CF67-54F4-4245-9383-928A96F51F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F924C31F-FECE-4D1D-A41E-FE63DAB592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612E9DD5-6CCE-48BE-A145-2CB18594BF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C336F4CB-BB94-434A-9600-94FFF3A246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D3265467-E125-4DA1-9916-0604877A24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915F1ECC-AFEE-462E-95E0-17ED642319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AF9C2-3D40-4536-A8B5-DB56FC847D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A7150-86AC-4A5E-A5E4-7433EE5CEE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1A83C-ABC0-47DA-B9DB-0BB89FD4FF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A9921-F1ED-4634-926A-6C0BD9E4B78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CB314-6422-4B26-A732-63122C6DA3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66DBE-BC02-4651-9558-61075DB342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76B7B-06B6-4E2A-BCB5-DAF32473BF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20A8F-BD76-467D-8A75-FDB95DFB75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1886B-30BA-4F0A-87EF-4570138107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FFCE9-09B1-4554-9CF2-501D6930E0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D4D80-5F76-4EDB-93E0-E19508DF40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C4005-6D49-4FB6-A76F-B42454A6A0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394920" y="616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EA316-5A8F-4C0E-BCB5-AC9F70B9A3A5}" type="slidenum">
              <a:rPr b="0" lang="en-GB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763440" y="1633680"/>
            <a:ext cx="453708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Keeping a logbook: Q&amp;A on reco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129280" y="4581000"/>
            <a:ext cx="3168720" cy="15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99"/>
                </a:solidFill>
                <a:latin typeface="Arial"/>
              </a:rPr>
              <a:t>Owe Langfel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99"/>
                </a:solidFill>
                <a:latin typeface="Arial"/>
              </a:rPr>
              <a:t>Massimo Attore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DPO-EDPS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31/05/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539640" y="287280"/>
            <a:ext cx="3635640" cy="272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Slide Number Placeholder 1"/>
          <p:cNvSpPr/>
          <p:nvPr/>
        </p:nvSpPr>
        <p:spPr>
          <a:xfrm>
            <a:off x="395280" y="6165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0930F-A484-4EC5-9DB1-289E4B4ACC9A}" type="slidenum">
              <a:rPr b="0" lang="en-GB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Shift in supervision archite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Diagram 1" descr=""/>
          <p:cNvPicPr/>
          <p:nvPr/>
        </p:nvPicPr>
        <p:blipFill>
          <a:blip r:embed="rId2"/>
          <a:stretch/>
        </p:blipFill>
        <p:spPr>
          <a:xfrm>
            <a:off x="1463760" y="1255680"/>
            <a:ext cx="6216480" cy="4286160"/>
          </a:xfrm>
          <a:prstGeom prst="rect">
            <a:avLst/>
          </a:prstGeom>
          <a:ln w="0">
            <a:noFill/>
          </a:ln>
        </p:spPr>
      </p:pic>
      <p:pic>
        <p:nvPicPr>
          <p:cNvPr id="84" name="Diagram 9" descr=""/>
          <p:cNvPicPr/>
          <p:nvPr/>
        </p:nvPicPr>
        <p:blipFill>
          <a:blip r:embed="rId3"/>
          <a:stretch/>
        </p:blipFill>
        <p:spPr>
          <a:xfrm>
            <a:off x="1457280" y="1352520"/>
            <a:ext cx="6218280" cy="41893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"/>
          <p:cNvPicPr/>
          <p:nvPr/>
        </p:nvPicPr>
        <p:blipFill>
          <a:blip r:embed="rId4"/>
          <a:stretch/>
        </p:blipFill>
        <p:spPr>
          <a:xfrm>
            <a:off x="7812000" y="5707080"/>
            <a:ext cx="118764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3"/>
          <p:cNvSpPr/>
          <p:nvPr/>
        </p:nvSpPr>
        <p:spPr>
          <a:xfrm>
            <a:off x="395280" y="6165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CD944-E137-4078-9F55-4AAA4881F61E}" type="slidenum">
              <a:rPr b="0" lang="en-GB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2d2d8a"/>
                </a:solidFill>
                <a:latin typeface="Arial"/>
              </a:rPr>
              <a:t>Documentation 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1"/>
          <a:stretch/>
        </p:blipFill>
        <p:spPr>
          <a:xfrm>
            <a:off x="501480" y="882720"/>
            <a:ext cx="8185320" cy="5678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"/>
          <p:cNvPicPr/>
          <p:nvPr/>
        </p:nvPicPr>
        <p:blipFill>
          <a:blip r:embed="rId2"/>
          <a:stretch/>
        </p:blipFill>
        <p:spPr>
          <a:xfrm>
            <a:off x="7812000" y="5707080"/>
            <a:ext cx="118764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395280" y="6165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246C8-E9B5-498E-A7A1-E16909455B5B}" type="slidenum">
              <a:rPr b="0" lang="en-GB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From Art. 25 notifications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to Art. 31 recor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851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H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Wh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Wh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7812000" y="5707080"/>
            <a:ext cx="118764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395280" y="6165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55B8B-AA9F-413B-A1DE-9CD5E8D8BE6E}" type="slidenum">
              <a:rPr b="0" lang="en-GB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What has to be in a reco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473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Minimum list in Art. 31 new 45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Template in </a:t>
            </a:r>
            <a:r>
              <a:rPr b="0" i="1" lang="en-GB" sz="2400" spc="-1" strike="noStrike">
                <a:solidFill>
                  <a:srgbClr val="333399"/>
                </a:solidFill>
                <a:latin typeface="Arial"/>
              </a:rPr>
              <a:t>accountability on the ground toolkit 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(optional, update to come soo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Two part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Article 31 strictly speakin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Compliance check / risk scree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Why those two par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Art. 31 is public, internal assessment not necessarily; however, they only make sense togethe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Part 2 is “why do we do this?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7812000" y="5707080"/>
            <a:ext cx="1187640" cy="89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" descr=""/>
          <p:cNvPicPr/>
          <p:nvPr/>
        </p:nvPicPr>
        <p:blipFill>
          <a:blip r:embed="rId2"/>
          <a:stretch/>
        </p:blipFill>
        <p:spPr>
          <a:xfrm>
            <a:off x="5060880" y="1268280"/>
            <a:ext cx="3795840" cy="2473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"/>
          <p:cNvPicPr/>
          <p:nvPr/>
        </p:nvPicPr>
        <p:blipFill>
          <a:blip r:embed="rId3"/>
          <a:stretch/>
        </p:blipFill>
        <p:spPr>
          <a:xfrm>
            <a:off x="5060880" y="3703680"/>
            <a:ext cx="378144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3"/>
          <p:cNvSpPr/>
          <p:nvPr/>
        </p:nvSpPr>
        <p:spPr>
          <a:xfrm>
            <a:off x="395280" y="6165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3295F-7FD7-4ADD-A7DB-58DC9278E4E1}" type="slidenum">
              <a:rPr b="0" lang="en-GB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How to create/convert the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51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Converting Art. 25 notifications to Art. 31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Translation table: </a:t>
            </a:r>
            <a:r>
              <a:rPr b="0" i="1" lang="en-GB" sz="2000" spc="-1" strike="noStrike">
                <a:solidFill>
                  <a:srgbClr val="333399"/>
                </a:solidFill>
                <a:latin typeface="Arial"/>
              </a:rPr>
              <a:t>Accountability on the ground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, part I, annex 4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Art. 31 part = 90% of the work is done, mostly changing label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Compliance part: you’ve thought about this already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Pub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Art. 31 part = pub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Compliance part = can remain inter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EDPS does not have a ready-made IT tool; use your own or share your too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7812000" y="5707080"/>
            <a:ext cx="118764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3"/>
          <p:cNvSpPr/>
          <p:nvPr/>
        </p:nvSpPr>
        <p:spPr>
          <a:xfrm>
            <a:off x="395280" y="6165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5F581-40C2-483B-B31C-5BA115E7A08F}" type="slidenum">
              <a:rPr b="0" lang="en-GB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When to do 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51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When to finis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New 45 to become applicable before end of 2018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Formally no transition perio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Do it quickly, keeping in mind that a large part of the work is already d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Records are living docu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Update as you go along and make changes to processing operation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Good idea: review cycl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Footnote: Quo vadis true prior checks? Deadline 01/07/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7812000" y="5707080"/>
            <a:ext cx="118764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3"/>
          <p:cNvSpPr/>
          <p:nvPr/>
        </p:nvSpPr>
        <p:spPr>
          <a:xfrm>
            <a:off x="395280" y="6165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B4370-F2EC-4A92-ABBF-E08FC449EA1B}" type="slidenum">
              <a:rPr b="0" lang="en-GB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Who’s in char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51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Individual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Controller in charg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DPO can provide guidance &amp; quality contro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Once more, accountability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all records kept in a central regist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allows comparison and knowledge-sharing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DPO prime candidate for custodian of the regist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But controller remains responsible for conte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7812000" y="5707080"/>
            <a:ext cx="118764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Thank you for your attention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99"/>
                </a:solidFill>
                <a:latin typeface="Arial"/>
              </a:rPr>
              <a:t>For more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99"/>
                </a:solidFill>
                <a:latin typeface="Arial"/>
              </a:rPr>
              <a:t>www.edps.europa.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99"/>
                </a:solidFill>
                <a:latin typeface="Arial"/>
              </a:rPr>
              <a:t>edps@edps.europa.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menu_icon_twitter2"/>
          <p:cNvPicPr/>
          <p:nvPr/>
        </p:nvPicPr>
        <p:blipFill>
          <a:blip r:embed="rId1"/>
          <a:stretch/>
        </p:blipFill>
        <p:spPr>
          <a:xfrm>
            <a:off x="3395520" y="4040280"/>
            <a:ext cx="474840" cy="4572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6"/>
          <p:cNvSpPr/>
          <p:nvPr/>
        </p:nvSpPr>
        <p:spPr>
          <a:xfrm>
            <a:off x="3870360" y="404028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99"/>
                </a:solidFill>
                <a:latin typeface="Arial"/>
              </a:rPr>
              <a:t>@EU_ED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lide Number Placeholder 3"/>
          <p:cNvSpPr/>
          <p:nvPr/>
        </p:nvSpPr>
        <p:spPr>
          <a:xfrm>
            <a:off x="395280" y="6165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C016D-5096-4679-A446-A0D1A776635D}" type="slidenum">
              <a:rPr b="0" lang="en-GB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Additional Background Sli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7812000" y="5707080"/>
            <a:ext cx="118764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PC phase-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95280" y="6165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D1A1D-A242-4BBD-AF6D-48DEC175D9D9}" type="slidenum">
              <a:rPr b="0" lang="en-GB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701640" y="2063880"/>
          <a:ext cx="8140680" cy="3348000"/>
        </p:xfrm>
        <a:graphic>
          <a:graphicData uri="http://schemas.openxmlformats.org/drawingml/2006/table">
            <a:tbl>
              <a:tblPr/>
              <a:tblGrid>
                <a:gridCol w="3456000"/>
                <a:gridCol w="4684680"/>
              </a:tblGrid>
              <a:tr h="513720">
                <a:tc>
                  <a:txBody>
                    <a:bodyPr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Ex-post PC notifica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0/11/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822240">
                <a:tc>
                  <a:txBody>
                    <a:bodyPr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True PC notifica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01/07/18</a:t>
                      </a:r>
                      <a:r>
                        <a:rPr b="0" lang="en-GB" sz="2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, but please asa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Cases in follow-u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If pending on your side upon applicability of new 45, do threshold assess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823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losed cases triggering DPIA criter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No need for DPIA immediately (unless change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31T16:18:59Z</dcterms:created>
  <dc:creator/>
  <dc:description/>
  <dc:language>en-US</dc:language>
  <cp:lastModifiedBy/>
  <dcterms:modified xsi:type="dcterms:W3CDTF">2018-05-31T16:19:06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O$NOPARSEFILE">
    <vt:lpwstr/>
  </property>
  <property fmtid="{D5CDD505-2E9C-101B-9397-08002B2CF9AE}" pid="3" name="COO$NOUSEREXPRESSIONS">
    <vt:lpwstr/>
  </property>
  <property fmtid="{D5CDD505-2E9C-101B-9397-08002B2CF9AE}" pid="4" name="COO$NOVIRTUALATTRS">
    <vt:lpwstr/>
  </property>
  <property fmtid="{D5CDD505-2E9C-101B-9397-08002B2CF9AE}" pid="5" name="FSC#COOSYSTEM@1.1:Container">
    <vt:lpwstr>COO.6515.100.2.328108</vt:lpwstr>
  </property>
  <property fmtid="{D5CDD505-2E9C-101B-9397-08002B2CF9AE}" pid="6" name="FSC#FSCFOLIO@1.1001:docpropproject">
    <vt:lpwstr/>
  </property>
  <property fmtid="{D5CDD505-2E9C-101B-9397-08002B2CF9AE}" pid="7" name="FSC$NOPARSEFILE">
    <vt:lpwstr/>
  </property>
  <property fmtid="{D5CDD505-2E9C-101B-9397-08002B2CF9AE}" pid="8" name="FSC$NOUSEREXPRESSIONS">
    <vt:lpwstr/>
  </property>
  <property fmtid="{D5CDD505-2E9C-101B-9397-08002B2CF9AE}" pid="9" name="FSC$NOVIRTUALATTRS">
    <vt:lpwstr/>
  </property>
</Properties>
</file>