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2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75B4D8F-03CC-496C-BB3B-95ECDFBFCC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ABA4450-8761-4C6B-B212-9836C3BE6D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FBF3260-0B0D-4745-9BAC-0622EE6ABC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40C8402-72BD-4677-923E-6C780D935F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ABD5D78-8F56-40EE-9F45-2F1D540409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5521060-58FB-434B-88FF-C89404F4E0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E386EAF-FA6F-4A30-A6AF-7684A41647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862D521-3728-42F5-A797-D1F9E377D7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6B18933-B108-4F3E-B5A5-7B9A0FF937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E7ED3AD-20F2-40B0-8BC5-12BF4F4CC4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7116CB8-B8EC-4801-A47C-74206B5F95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B19FC81-0BDB-4B2D-89C3-7B5EE5AAD9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CD1CD50-25B8-4B62-957D-23CCF18B2E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40FEADA-FE0F-43CD-BB19-F3225A0FEB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D592F5F-F345-47D7-A990-662B4ACE2D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B60DB-C144-476B-A9AB-333446C295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7A219-C1EA-4C66-9C8A-89F7676843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A663B-F978-4FE4-88CE-33B6A0E185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31E62-D0DE-461A-9E11-F4D93FD359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CC0F3-E7D9-4564-9DD7-483BF2AA64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DCFBA-BC4A-4306-A303-CEB040E51B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A6214-5787-4972-B944-78E17F7DF4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727DE-359E-4631-922E-E3ACCAAA43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9F2E0-FA20-42BB-8A36-74096E0D6F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D8C44-A369-40A0-9FA7-858BFCE7B8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9551D-4213-41E5-BCA9-EDAA872CEC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A4207-47B8-4248-AC75-4DA4FECC16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394920" y="616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D5DF-12B7-491D-B632-DECD9883720B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dps.europa.eu/" TargetMode="External"/><Relationship Id="rId2" Type="http://schemas.openxmlformats.org/officeDocument/2006/relationships/hyperlink" Target="mailto:edps@edps.europa.eu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95280" y="1483920"/>
            <a:ext cx="43023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Emergency drill: ECB’s medical scheme and DP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129280" y="4581000"/>
            <a:ext cx="316872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Barbara Egg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Owe Langfel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DPO-EDPS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31/05/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539640" y="287280"/>
            <a:ext cx="3635640" cy="272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395280" y="616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A199-CCFD-4686-A2AE-89BDD2542E50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Q&amp;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Any DPIA experience you’d like to share? Problems encountered, lessons learned..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Feedback on toolk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7812000" y="5707080"/>
            <a:ext cx="118764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Thank you for your attenti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For more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dps.europa.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ps@edps.europa.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menu_icon_twitter2"/>
          <p:cNvPicPr/>
          <p:nvPr/>
        </p:nvPicPr>
        <p:blipFill>
          <a:blip r:embed="rId3"/>
          <a:stretch/>
        </p:blipFill>
        <p:spPr>
          <a:xfrm>
            <a:off x="3395520" y="4040280"/>
            <a:ext cx="474840" cy="4572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3870360" y="404028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@EU_ED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395280" y="616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AABF-A4A5-4977-8818-60265546ED8E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Additional Background Sli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7812000" y="5707080"/>
            <a:ext cx="118764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Slide Number Placeholder 1"/>
          <p:cNvSpPr/>
          <p:nvPr/>
        </p:nvSpPr>
        <p:spPr>
          <a:xfrm>
            <a:off x="395280" y="616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D60D-9688-49FD-896D-C9EE12B59D59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Shift in supervision archit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Diagram 1" descr=""/>
          <p:cNvPicPr/>
          <p:nvPr/>
        </p:nvPicPr>
        <p:blipFill>
          <a:blip r:embed="rId2"/>
          <a:stretch/>
        </p:blipFill>
        <p:spPr>
          <a:xfrm>
            <a:off x="1463760" y="1255680"/>
            <a:ext cx="6216480" cy="4286160"/>
          </a:xfrm>
          <a:prstGeom prst="rect">
            <a:avLst/>
          </a:prstGeom>
          <a:ln w="0">
            <a:noFill/>
          </a:ln>
        </p:spPr>
      </p:pic>
      <p:pic>
        <p:nvPicPr>
          <p:cNvPr id="113" name="Diagram 9" descr=""/>
          <p:cNvPicPr/>
          <p:nvPr/>
        </p:nvPicPr>
        <p:blipFill>
          <a:blip r:embed="rId3"/>
          <a:stretch/>
        </p:blipFill>
        <p:spPr>
          <a:xfrm>
            <a:off x="1457280" y="1352520"/>
            <a:ext cx="6218280" cy="4189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"/>
          <p:cNvPicPr/>
          <p:nvPr/>
        </p:nvPicPr>
        <p:blipFill>
          <a:blip r:embed="rId4"/>
          <a:stretch/>
        </p:blipFill>
        <p:spPr>
          <a:xfrm>
            <a:off x="7812000" y="5707080"/>
            <a:ext cx="118764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395280" y="616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F64F-6C9E-493E-9353-88B5727BC47F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d2d8a"/>
                </a:solidFill>
                <a:latin typeface="Arial"/>
              </a:rPr>
              <a:t>Documentation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501480" y="882720"/>
            <a:ext cx="8185320" cy="5678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7812000" y="5707080"/>
            <a:ext cx="118764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395280" y="616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AF74-885D-4063-9485-F4295B07F846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DPIA – state of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EDPS Guid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WP29/EDPB &amp; national method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Group work – based on a true story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ECB medical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Lessons lear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Q &amp;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7812000" y="5707080"/>
            <a:ext cx="118764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395280" y="616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B191-C80E-4DA9-A67A-C22E39732104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DPIA – EDPS guidanc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Recap – what happened at past DPO meeting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Alicante: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New architecture &amp; risk-based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Tallinn: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Threshold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London: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Guiding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Accountability on the ground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’ – prelim. version 02/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Why ‘preliminary’? Were still waiting for agreed ‘new 45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But: Articles on records and DPIAs weren’t the controversial 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Feedback received &amp; still wel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Update to come very soon with final agreed text for ‘new 45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Article 39(4) list to 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Risk mindset: same logic applies to less risky processing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7812000" y="5707080"/>
            <a:ext cx="118764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395280" y="616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6E85-7EA7-4F45-93B8-AB3DF5799112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DPIA – WP29/EDPB guidance &amp; national methodolo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WP29 GL: rather general on how to do it, more concrete on thresho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oolkit provides some guidance, but all GDPR-compliant methodologies are accep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ES, FR (also available in other languages), UK updated their guidance in the meanti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no EDPS-imposed methodolo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Common frame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necessity &amp; propor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risk assessment &amp;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process perspective: it’s not over once you’ve got a repor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7812000" y="5707080"/>
            <a:ext cx="118764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3"/>
          <p:cNvSpPr/>
          <p:nvPr/>
        </p:nvSpPr>
        <p:spPr>
          <a:xfrm>
            <a:off x="395280" y="616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4BC1-B1BA-42DC-A2B8-E286F9B38B6E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Group work... based on a true story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Scenario: based on ECB medical scheme, but limited in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Processing oper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reimbursement of medical expe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4/7 helpline for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fraud detection and reporting of suspic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reporting to E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Data subjects: covered staff members and depen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Players: EUI, staff, service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NB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: different system and legal basis; pretend you don’t remember JSIS / the ‘normal’ Staff Reg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More information in your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7812000" y="5707080"/>
            <a:ext cx="118764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4"/>
          <p:cNvSpPr/>
          <p:nvPr/>
        </p:nvSpPr>
        <p:spPr>
          <a:xfrm>
            <a:off x="809640" y="3981600"/>
            <a:ext cx="3311640" cy="192348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68"/>
                </a:solidFill>
                <a:latin typeface="Arial"/>
              </a:rPr>
              <a:t>Prov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95280" y="616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4B03-B412-4486-9128-1F28FB48C243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Group work... based on a true story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7812000" y="5707080"/>
            <a:ext cx="1187640" cy="89064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2894040" y="4441680"/>
            <a:ext cx="11509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68"/>
                </a:solidFill>
                <a:latin typeface="Arial"/>
              </a:rPr>
              <a:t>Help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1327320" y="4441680"/>
            <a:ext cx="139536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68"/>
                </a:solidFill>
                <a:latin typeface="Arial"/>
              </a:rPr>
              <a:t>Claims sett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1327320" y="5302080"/>
            <a:ext cx="27176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68"/>
                </a:solidFill>
                <a:latin typeface="Arial"/>
              </a:rPr>
              <a:t>fraud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1"/>
          <p:cNvSpPr/>
          <p:nvPr/>
        </p:nvSpPr>
        <p:spPr>
          <a:xfrm>
            <a:off x="7128000" y="2914560"/>
            <a:ext cx="1150920" cy="100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68"/>
                </a:solidFill>
                <a:latin typeface="Arial"/>
              </a:rPr>
              <a:t>E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8"/>
          <p:cNvSpPr/>
          <p:nvPr/>
        </p:nvSpPr>
        <p:spPr>
          <a:xfrm>
            <a:off x="7128000" y="1248840"/>
            <a:ext cx="1150920" cy="1008720"/>
          </a:xfrm>
          <a:prstGeom prst="rect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68"/>
                </a:solidFill>
                <a:latin typeface="Arial"/>
              </a:rPr>
              <a:t>Do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836640" y="1241280"/>
            <a:ext cx="2376360" cy="1008720"/>
          </a:xfrm>
          <a:prstGeom prst="rect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68"/>
                </a:solidFill>
                <a:latin typeface="Arial"/>
              </a:rPr>
              <a:t>EUI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0255"/>
          <p:cNvSpPr/>
          <p:nvPr/>
        </p:nvSpPr>
        <p:spPr>
          <a:xfrm>
            <a:off x="4786200" y="3062160"/>
            <a:ext cx="18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68"/>
                </a:solidFill>
                <a:latin typeface="Arial"/>
              </a:rPr>
              <a:t>enrolment 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0258"/>
          <p:cNvSpPr/>
          <p:nvPr/>
        </p:nvSpPr>
        <p:spPr>
          <a:xfrm rot="5400000">
            <a:off x="809640" y="30247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68"/>
                </a:solidFill>
                <a:latin typeface="Arial"/>
              </a:rPr>
              <a:t>submit cla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3"/>
          <p:cNvSpPr/>
          <p:nvPr/>
        </p:nvSpPr>
        <p:spPr>
          <a:xfrm rot="16200000">
            <a:off x="1220400" y="28771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68"/>
                </a:solidFill>
                <a:latin typeface="Arial"/>
              </a:rPr>
              <a:t>reimburs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Elbow Connector 10263"/>
          <p:cNvCxnSpPr>
            <a:stCxn id="64" idx="2"/>
            <a:endCxn id="71" idx="3"/>
          </p:cNvCxnSpPr>
          <p:nvPr/>
        </p:nvCxnSpPr>
        <p:spPr>
          <a:xfrm flipH="1" flipV="1" rot="5400000">
            <a:off x="4122360" y="1763640"/>
            <a:ext cx="2498040" cy="5814360"/>
          </a:xfrm>
          <a:prstGeom prst="bentConnector4">
            <a:avLst>
              <a:gd name="adj1" fmla="val -9152"/>
              <a:gd name="adj2" fmla="val 103925"/>
            </a:avLst>
          </a:prstGeom>
          <a:ln w="38160">
            <a:solidFill>
              <a:srgbClr val="222268"/>
            </a:solidFill>
            <a:miter/>
            <a:tailEnd len="med" type="triangle" w="med"/>
          </a:ln>
        </p:spPr>
      </p:cxnSp>
      <p:cxnSp>
        <p:nvCxnSpPr>
          <p:cNvPr id="78" name="Elbow Connector 62"/>
          <p:cNvCxnSpPr>
            <a:stCxn id="71" idx="1"/>
            <a:endCxn id="64" idx="3"/>
          </p:cNvCxnSpPr>
          <p:nvPr/>
        </p:nvCxnSpPr>
        <p:spPr>
          <a:xfrm flipV="1" rot="10800000">
            <a:off x="4120560" y="3422160"/>
            <a:ext cx="3007440" cy="1580400"/>
          </a:xfrm>
          <a:prstGeom prst="bentConnector3">
            <a:avLst>
              <a:gd name="adj1" fmla="val 75338"/>
            </a:avLst>
          </a:prstGeom>
          <a:ln w="38160">
            <a:solidFill>
              <a:srgbClr val="222268"/>
            </a:solidFill>
            <a:miter/>
            <a:tailEnd len="med" type="triangle" w="med"/>
          </a:ln>
        </p:spPr>
      </p:cxnSp>
      <p:sp>
        <p:nvSpPr>
          <p:cNvPr id="79" name="TextBox 34"/>
          <p:cNvSpPr/>
          <p:nvPr/>
        </p:nvSpPr>
        <p:spPr>
          <a:xfrm>
            <a:off x="4807080" y="5754600"/>
            <a:ext cx="31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68"/>
                </a:solidFill>
                <a:latin typeface="Arial"/>
              </a:rPr>
              <a:t>repor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222268"/>
                </a:solidFill>
                <a:latin typeface="Arial"/>
              </a:rPr>
              <a:t>on use of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Elbow Connector 43"/>
          <p:cNvCxnSpPr>
            <a:stCxn id="70" idx="3"/>
            <a:endCxn id="71" idx="2"/>
          </p:cNvCxnSpPr>
          <p:nvPr/>
        </p:nvCxnSpPr>
        <p:spPr>
          <a:xfrm flipV="1">
            <a:off x="4044960" y="3930120"/>
            <a:ext cx="3659760" cy="1572480"/>
          </a:xfrm>
          <a:prstGeom prst="bentConnector2">
            <a:avLst/>
          </a:prstGeom>
          <a:ln w="38160">
            <a:solidFill>
              <a:srgbClr val="222268"/>
            </a:solidFill>
            <a:miter/>
            <a:tailEnd len="med" type="triangle" w="med"/>
          </a:ln>
        </p:spPr>
      </p:cxnSp>
      <p:cxnSp>
        <p:nvCxnSpPr>
          <p:cNvPr id="81" name="Elbow Connector 52"/>
          <p:cNvCxnSpPr>
            <a:stCxn id="73" idx="3"/>
            <a:endCxn id="72" idx="1"/>
          </p:cNvCxnSpPr>
          <p:nvPr/>
        </p:nvCxnSpPr>
        <p:spPr>
          <a:xfrm>
            <a:off x="3212640" y="1749240"/>
            <a:ext cx="3915720" cy="1080"/>
          </a:xfrm>
          <a:prstGeom prst="bentConnector3">
            <a:avLst>
              <a:gd name="adj1" fmla="val 50000"/>
            </a:avLst>
          </a:prstGeom>
          <a:ln w="38160">
            <a:solidFill>
              <a:srgbClr val="222268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2" name="TextBox 96"/>
          <p:cNvSpPr/>
          <p:nvPr/>
        </p:nvSpPr>
        <p:spPr>
          <a:xfrm>
            <a:off x="4094280" y="1389240"/>
            <a:ext cx="2152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68"/>
                </a:solidFill>
                <a:latin typeface="Arial"/>
              </a:rPr>
              <a:t>Patient – doctor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Elbow Connector 65"/>
          <p:cNvCxnSpPr>
            <a:stCxn id="73" idx="2"/>
            <a:endCxn id="69" idx="0"/>
          </p:cNvCxnSpPr>
          <p:nvPr/>
        </p:nvCxnSpPr>
        <p:spPr>
          <a:xfrm flipH="1" rot="16200000">
            <a:off x="932760" y="3349080"/>
            <a:ext cx="2184840" cy="1080"/>
          </a:xfrm>
          <a:prstGeom prst="bentConnector3">
            <a:avLst>
              <a:gd name="adj1" fmla="val 50000"/>
            </a:avLst>
          </a:prstGeom>
          <a:ln w="38160">
            <a:solidFill>
              <a:srgbClr val="222268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4" name="TextBox 113"/>
          <p:cNvSpPr/>
          <p:nvPr/>
        </p:nvSpPr>
        <p:spPr>
          <a:xfrm>
            <a:off x="4807080" y="5035680"/>
            <a:ext cx="31845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68"/>
                </a:solidFill>
                <a:latin typeface="Arial"/>
              </a:rPr>
              <a:t>info on suspicious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Elbow Connector 22"/>
          <p:cNvCxnSpPr>
            <a:endCxn id="68" idx="0"/>
          </p:cNvCxnSpPr>
          <p:nvPr/>
        </p:nvCxnSpPr>
        <p:spPr>
          <a:xfrm flipH="1" rot="16200000">
            <a:off x="2003400" y="2975400"/>
            <a:ext cx="2184840" cy="748440"/>
          </a:xfrm>
          <a:prstGeom prst="bentConnector3">
            <a:avLst>
              <a:gd name="adj1" fmla="val 50000"/>
            </a:avLst>
          </a:prstGeom>
          <a:ln w="38160">
            <a:solidFill>
              <a:srgbClr val="222268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395280" y="616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6297-BEB9-4102-B1C9-C0FAFF1679CD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Group work – results? some possible risks &amp; contr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7812000" y="5707080"/>
            <a:ext cx="1187640" cy="89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731880" y="1563840"/>
          <a:ext cx="7704000" cy="4626000"/>
        </p:xfrm>
        <a:graphic>
          <a:graphicData uri="http://schemas.openxmlformats.org/drawingml/2006/table">
            <a:tbl>
              <a:tblPr/>
              <a:tblGrid>
                <a:gridCol w="3852720"/>
                <a:gridCol w="385128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s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711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Further subcontracting, leading to loss of contr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Rules in con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709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Unauthorised further use of data by contra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Rules in contract, audit tra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Interception of claims during submi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... will be defined in security requirements for submission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Leaks via help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Access control for helpline staff / training / authentication of call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Disclosure of personal data in reporting on system use to EU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Business rules on anonymisation/ pseudonymis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708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Excessive disclosures in dealing with suspected frau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Business r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395280" y="616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D389-0194-4B49-A86E-C2F4DE535E2A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85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ECB Medical Scheme – 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120816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Mapping flows for complex processing operations proved difficu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Many internal &amp; external actors involve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ubcontracting: understanding relationships and ensuring requirements are passed 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EEA processing: getting contractors to understand that extra-EEA access (e.g. helpdesk) is processing t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reativity for thinking of risks: what could possibly go wrong (risk catalogue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When to go for prior consult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7812000" y="5707080"/>
            <a:ext cx="118764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395280" y="616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4037-46D3-4EF5-A50B-1A470B6A4726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5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ECB Medical Scheme – 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20816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Early DPO involvement is cru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Fraud prevention: DPO comments on update of staff rules helped to ensure data minimisa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ender specifications: include data protection requirements &amp; DP annex early 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Avoids having/discovering problems down the li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Data protection culture: controller side is very data protection a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Many questions, but often just to confirm their (correct) analys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Awareness-raising pays of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7812000" y="5707080"/>
            <a:ext cx="118764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31T16:20:57Z</dcterms:created>
  <dc:creator/>
  <dc:description/>
  <dc:language>en-US</dc:language>
  <cp:lastModifiedBy/>
  <dcterms:modified xsi:type="dcterms:W3CDTF">2018-05-31T16:21:02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O$NOPARSEFILE">
    <vt:lpwstr/>
  </property>
  <property fmtid="{D5CDD505-2E9C-101B-9397-08002B2CF9AE}" pid="3" name="COO$NOUSEREXPRESSIONS">
    <vt:lpwstr/>
  </property>
  <property fmtid="{D5CDD505-2E9C-101B-9397-08002B2CF9AE}" pid="4" name="COO$NOVIRTUALATTRS">
    <vt:lpwstr/>
  </property>
  <property fmtid="{D5CDD505-2E9C-101B-9397-08002B2CF9AE}" pid="5" name="FSC#COOSYSTEM@1.1:Container">
    <vt:lpwstr>COO.6515.100.3.328108</vt:lpwstr>
  </property>
  <property fmtid="{D5CDD505-2E9C-101B-9397-08002B2CF9AE}" pid="6" name="FSC#FSCFOLIO@1.1001:docpropproject">
    <vt:lpwstr/>
  </property>
  <property fmtid="{D5CDD505-2E9C-101B-9397-08002B2CF9AE}" pid="7" name="FSC$NOPARSEFILE">
    <vt:lpwstr/>
  </property>
  <property fmtid="{D5CDD505-2E9C-101B-9397-08002B2CF9AE}" pid="8" name="FSC$NOUSEREXPRESSIONS">
    <vt:lpwstr/>
  </property>
  <property fmtid="{D5CDD505-2E9C-101B-9397-08002B2CF9AE}" pid="9" name="FSC$NOVIRTUALATTRS">
    <vt:lpwstr/>
  </property>
</Properties>
</file>