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f2e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Jun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025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7956720" y="115920"/>
          <a:ext cx="10080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15920"/>
                    <a:ext cx="10080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1080" y="1052640"/>
            <a:ext cx="9325080" cy="561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9000"/>
            <a:ext cx="914400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cessing on behalf of the control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oint control under Regulation 45/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reference to the contractor’s personal data and right of access to them is not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ubjects should also be included since part/all of their data are processed by the processor within the execution of th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re is reference to “the Contractor”, institutions/agencies should add the phrase “and the data subjects whose data are processed by the Contra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termination of purposes, means, joint/single control stem from legal and factual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for clear and unambiguous designation of controllers/processors in a written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for clear and specific allocation of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ler(s) remains responsible on substance: (Lawfulness, quality, retention, transfer, notice, rights, security 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ler may allow the processor to choose the most suitable technical and organisational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 OF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362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in Art.2(d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utonomous concept intended to allocate responsibilitie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29 – Opinion 1/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institution/agency which shall be considered as ultimately responsible for data processing and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may be designated, but will act on behalf of the institution/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fic identity is import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terface/contact person for the data subjects’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data quality (according to Art.4(2)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compliance with data protection princi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ltimate responsibility lies with the institution/agenc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 OF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134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Definition in Art.2(e) -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s existence and lawfulness is determined by the mandate given by the controll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P29 – Opinion 1/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2 conditions for being a process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ternal separate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ocessing data on behalf of th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EXTERNAL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15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mission's medical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s as processor to an agency and the processing is governed by a S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ternal medical cen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ries out some or most of the medical exams on behalf of an agenc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dical advi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medical data at the agency's premises on behalf of an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surance 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imburses data subjects in case of accident/occupational disease by processing medical data on behalf of the EP and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ONTROL/CONTROLL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rge scale I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Custom Information system (CIS)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LAF and the competent authorities in the MS are co-control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e of the tasks of a controller cannot be fulfilled by OL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uploading and amending of data, the decision on whether or no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nd storage for CIS cases, is done by the competent authoriti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MS + They are the only ones capable of changing data up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y them so the right to rectification (incumbent on the controller, Art.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 to be ensured by them + They are the one authorising transfer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00000" y="1341000"/>
            <a:ext cx="7315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petent authorities cannot be regarded as mere user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ystem. Their decisions have significant impact on the purpos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he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S mirrors other large-scale IT systems such as EURODAC in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Commission is responsible for the setting up and the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nagement, but not for the actual content of the data upload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AF sets up the system, gives concrete form to the autorisation in the legal basis: it partly determines the means and purpos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 do the competent authorities of the 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controller is responsible of its own processing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 2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of personal data on behalf of controll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 or legal act binding the controller and the processor should include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hall act only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controller (Article 23(2)(a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ligations with regar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ti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rt.21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(Art.22) should be incumbent on the processor (Article 23(2)(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ocessor is subject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ne of the M.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irtue of Article 17 (3), second indent, of Directive 95/46/EC, those obligations are incumbent on the processor (Article 23(2)(b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I.X-DATA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ersonal data included in or relating to the Contract, including its execution shall be processed pursuant to Regulation 45/2001…It shall be processed solely for the purposes of the performance, management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actor shall have the right of access to his personal data and the right to rectify any such data that is inaccurate or incomple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the Contractor have any queries concerning the processing of his personal data, he shall address them to the institution/agency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actor shall have the right of recourse at any time to the ED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6:11:23Z</dcterms:created>
  <dc:creator>lbeslay</dc:creator>
  <dc:description/>
  <dc:language>en-US</dc:language>
  <cp:lastModifiedBy>aschwander</cp:lastModifiedBy>
  <dcterms:modified xsi:type="dcterms:W3CDTF">2012-06-28T09:30:59Z</dcterms:modified>
  <cp:revision>251</cp:revision>
  <dc:subject/>
  <dc:title>Slide 1</dc:title>
</cp:coreProperties>
</file>