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f2e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Jun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025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7956720" y="115920"/>
          <a:ext cx="10080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115920"/>
                    <a:ext cx="10080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-181080" y="1052640"/>
            <a:ext cx="9325080" cy="561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89000"/>
            <a:ext cx="8569080" cy="75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4800" spc="-1" strike="noStrike">
                <a:solidFill>
                  <a:srgbClr val="000099"/>
                </a:solidFill>
                <a:latin typeface="Times New Roman"/>
              </a:rPr>
              <a:t>Prior checking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GB" sz="4800" spc="-1" strike="noStrike">
                <a:solidFill>
                  <a:srgbClr val="000099"/>
                </a:solidFill>
                <a:latin typeface="Times New Roman"/>
              </a:rPr>
              <a:t>other procedural issues</a:t>
            </a:r>
            <a:r>
              <a:rPr b="0" lang="en-GB" sz="4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GB" sz="4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                                           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Tereza Struncov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adline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t. 27(4)1 D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wo months after receipt of the notific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.e. 61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lenda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nless suspension or extens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spension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t. 27(4)2 D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315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 additional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en elaborating the draf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 comments on the draf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ending adoption of thematic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gust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ssible suspension for other lengthy public holidays applicabl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n a case-by-case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tension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t. 27(4)3-4 D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3152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or up to two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ue to complexity of the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y </a:t>
            </a:r>
            <a:r>
              <a:rPr b="0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decision of the EDP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tified to the contro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efore the expiry of the initial two-months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6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low up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t. 27(4)6 D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7600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ull compliance with the Data Protection Regulation needs to be en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easures implementing the EDPS recommendations to be adopted by the controller within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ree month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after adoption of the respective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DPS needs to be notified about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so that the case can be clos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256536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fore adoption of the EDPS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O BE AVOI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lready existing EDPS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PO has to determin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ether the modification of the particular procedur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gnificantly affect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he data protection aspects as already exam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y the E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413000"/>
            <a:ext cx="6248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Mod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of already submitted no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371600" y="1522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ny question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6:11:23Z</dcterms:created>
  <dc:creator>lbeslay</dc:creator>
  <dc:description/>
  <dc:language>en-US</dc:language>
  <cp:lastModifiedBy>gsamaras</cp:lastModifiedBy>
  <dcterms:modified xsi:type="dcterms:W3CDTF">2011-06-07T09:51:28Z</dcterms:modified>
  <cp:revision>126</cp:revision>
  <dc:subject/>
  <dc:title>Slide 1</dc:title>
</cp:coreProperties>
</file>