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f2e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Jun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025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7956720" y="115920"/>
          <a:ext cx="10080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15920"/>
                    <a:ext cx="10080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81080" y="1052640"/>
            <a:ext cx="9325080" cy="561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620640"/>
            <a:ext cx="93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765000"/>
            <a:ext cx="73436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Data Subjects’ Righ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757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triggered by the particular situation of the DS: right to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) Not compelling legitimate gr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on of publication of name in Tendering Register of the EU (TED) as contact per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bjection in context of civil proceedings that the Commission discloses information to a third party on whether or not DS was a civil servant at the Com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bjection to disclosure of the salary data to the spouse in context of divorce proced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 Compelling legitimate gr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on to publication of name of DS mentioned in court decisions published on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of Fundamental Righ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icle 8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Everyone has the right of access to data which has been collected concerning him or her, and the right to have it rectified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umber of rights set forth in Regulation 45/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1342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of access (Article 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of rectification (Article 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of blocking (Article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of erasure (Article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to object to the processing (Article 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rights in case of automated individual decisions (Article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844280"/>
            <a:ext cx="7315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 rights shall be available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obligation to act for th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uarantee their effectiv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reasonable tim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delay” for rec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ly for blocking and er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3 months” f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what do they mean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hall they be appl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4674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of Access (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674360"/>
            <a:ext cx="7315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n intelligible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wn personal data undergoing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beh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utomate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o whether data are processed about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purposes, categories of data, and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4674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of Access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74360"/>
            <a:ext cx="73152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hall be gran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he fullest ex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t.20 (1) exemption a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interpretation, on a case-by-cas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must not be restricted more broadly tha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uch cases, specific moda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certain medical data through a doc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data through EDPS - Art.20(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74674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of Access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674720"/>
            <a:ext cx="731520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helps 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nderstand which data are processed about him/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erify the quality of his/her ow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erify the lawfulness of th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ercise his/her other DP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s triggered by inaccuracy of data or unlawfu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ccuracy/incomplet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ight to rectify or to block data until controller has verifi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ctification of objective and factu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ness of file: complementary documents may be added, right to express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awful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ight to erase data or to block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urpose of pro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ight to block data no longer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6:11:23Z</dcterms:created>
  <dc:creator>lbeslay</dc:creator>
  <dc:description/>
  <dc:language>en-US</dc:language>
  <cp:lastModifiedBy>aschwander</cp:lastModifiedBy>
  <dcterms:modified xsi:type="dcterms:W3CDTF">2012-06-21T14:02:59Z</dcterms:modified>
  <cp:revision>166</cp:revision>
  <dc:subject/>
  <dc:title>Slide 1</dc:title>
</cp:coreProperties>
</file>